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10638-D524-4FE5-A37A-54C8DA48B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2E23E-40BD-4B46-87F7-2B8013E21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51859-9AAD-4B9C-B7D5-28912C0D4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653A1-76F1-4113-96A9-EF7E16347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DF5AE-4EAB-42AB-9F0E-0DA590DCB5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7C2A0-6630-4C25-AA20-D8AC2D796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7128C-7E00-4DE7-9264-109476DA2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5F688-D5C9-46C4-BA5D-060607439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DC4B6-07D7-468F-956E-6450DF866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924A1-1A37-44CA-9156-B1B21349C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5612C-C1A9-4B64-9A17-32C1ABEA2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27321-7709-48BD-B1C7-D4D737F31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736A8-1E59-4D4E-A03D-D9576368A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B1C21-6401-4C07-95B8-CB7081602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75C61-B108-4A33-8F04-C99A233D6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2DE66-E904-4BD2-935D-E021025FA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7FD399-4788-4157-9A64-6D8FC7AEA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4238A9-F698-4DDD-BC0B-69F92169A1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321352-1B35-4E65-A3ED-D6B75C57FB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92CEFB-0760-4C4E-A9A3-BA79D260DB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5C2093-CD71-40F8-B71C-B2198698BF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D7E1F8-7067-4916-A442-93743EB465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D8F54-A704-4E1A-AB27-E810D1758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7B4773-9F3C-42F6-9898-506FBCC37D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5AC825-4A65-4CEB-B401-C56EAA800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777A96-0517-4721-938F-4CCC13BB36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C1170-2F55-45D7-9458-3EE82BBCC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DADE66-CE97-4FCC-A998-F3793C284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6300F7-AF62-4A05-955E-527353A009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CB4EF1-6430-4EB5-B179-9C92058644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0C9711-F42C-4154-90C3-A0AC2F8916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BF67B-CED6-4478-A94C-CB8A4E61D1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1B19B9-69AC-4FDC-9C70-49501F0CFE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C3C25-835F-40D3-A1A0-7239B9ADC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4F8F93-E345-4F6F-8CC1-E4234FE4BF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7B2F3-6653-4FAB-BCB2-F7EC50712E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AD636B-B6C2-4CA6-99EC-AF489FB870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A79682-EF48-451C-9E5A-2E2AE1CEF5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9D70DF-8617-4C9F-B203-A75EEF0C98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B50BDA-287F-404B-8EB9-96EB94E2E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569554-ED6C-4E42-9192-B3823983B6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27299B-C585-4858-84EA-811127BDD3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EEF0FC-BA66-4FEA-890B-BD7D54EFCC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E91EC-9EDD-4BB1-8228-0AFBC7EFB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C2818-F201-4198-A1BF-FA4DE98A8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7B1D2-CEDA-4853-B475-F7B0DF53B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D2B6B-DDE9-4656-BC6F-75723E531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B68B7-B20D-41C2-A5D4-A7C92025B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8"/>
          <p:cNvGrpSpPr/>
          <p:nvPr/>
        </p:nvGrpSpPr>
        <p:grpSpPr>
          <a:xfrm>
            <a:off x="0" y="-7920"/>
            <a:ext cx="12192120" cy="6865920"/>
            <a:chOff x="0" y="-7920"/>
            <a:chExt cx="12192120" cy="6865920"/>
          </a:xfrm>
        </p:grpSpPr>
        <p:sp>
          <p:nvSpPr>
            <p:cNvPr id="1"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59B9A6-2150-4539-9A66-3269D0986531}" type="slidenum">
              <a:rPr b="0" lang="en-US" sz="900" spc="-1" strike="noStrike">
                <a:solidFill>
                  <a:srgbClr val="eb3d9f"/>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2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BCF83-6EB7-439F-883E-A14FD5DEE8F4}" type="slidenum">
              <a:rPr b="0" lang="en-US" sz="900" spc="-1" strike="noStrike">
                <a:solidFill>
                  <a:srgbClr val="eb3d9f"/>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28"/>
          <p:cNvGrpSpPr/>
          <p:nvPr/>
        </p:nvGrpSpPr>
        <p:grpSpPr>
          <a:xfrm>
            <a:off x="0" y="-7920"/>
            <a:ext cx="12192120" cy="6865920"/>
            <a:chOff x="0" y="-7920"/>
            <a:chExt cx="12192120" cy="6865920"/>
          </a:xfrm>
        </p:grpSpPr>
        <p:sp>
          <p:nvSpPr>
            <p:cNvPr id="105"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116" name="TextBox 29"/>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C5B16-87B5-447D-B935-1DEE68F1F5AC}" type="slidenum">
              <a:rPr b="0" lang="en-US" sz="900" spc="-1" strike="noStrike">
                <a:solidFill>
                  <a:srgbClr val="eb3d9f"/>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28"/>
          <p:cNvGrpSpPr/>
          <p:nvPr/>
        </p:nvGrpSpPr>
        <p:grpSpPr>
          <a:xfrm>
            <a:off x="0" y="-7920"/>
            <a:ext cx="12192120" cy="6865920"/>
            <a:chOff x="0" y="-7920"/>
            <a:chExt cx="12192120" cy="6865920"/>
          </a:xfrm>
        </p:grpSpPr>
        <p:sp>
          <p:nvSpPr>
            <p:cNvPr id="159"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170" name="TextBox 29"/>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5A89E-5764-4F80-95E1-150813DDDF2E}" type="slidenum">
              <a:rPr b="0" lang="en-US" sz="900" spc="-1" strike="noStrike">
                <a:solidFill>
                  <a:srgbClr val="eb3d9f"/>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0" y="150840"/>
            <a:ext cx="9736200" cy="119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000080"/>
                </a:solidFill>
                <a:latin typeface="Verdana"/>
                <a:ea typeface="Times New Roman"/>
              </a:rPr>
              <a:t>TAADEL301A</a:t>
            </a:r>
            <a:endParaRPr b="0" lang="en-US" sz="3200" spc="-1" strike="noStrike">
              <a:solidFill>
                <a:srgbClr val="000000"/>
              </a:solidFill>
              <a:latin typeface="Trebuchet MS"/>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80"/>
                </a:solidFill>
                <a:latin typeface="Verdana"/>
                <a:ea typeface="Times New Roman"/>
              </a:rPr>
              <a:t>Provide Training through instruction and demonstration of work skills</a:t>
            </a:r>
            <a:r>
              <a:rPr b="0" lang="en-AU" sz="3200" spc="-1" strike="noStrike">
                <a:solidFill>
                  <a:srgbClr val="000000"/>
                </a:solidFill>
                <a:latin typeface="Times New Roman"/>
                <a:ea typeface="Times New Roman"/>
              </a:rPr>
              <a:t> </a:t>
            </a:r>
            <a:endParaRPr b="0" lang="en-US" sz="3200" spc="-1" strike="noStrike">
              <a:solidFill>
                <a:srgbClr val="000000"/>
              </a:solidFill>
              <a:latin typeface="Trebuchet MS"/>
            </a:endParaRPr>
          </a:p>
        </p:txBody>
      </p:sp>
      <p:graphicFrame>
        <p:nvGraphicFramePr>
          <p:cNvPr id="213" name=""/>
          <p:cNvGraphicFramePr/>
          <p:nvPr/>
        </p:nvGraphicFramePr>
        <p:xfrm>
          <a:off x="447840" y="1355760"/>
          <a:ext cx="10897920" cy="6388200"/>
        </p:xfrm>
        <a:graphic>
          <a:graphicData uri="http://schemas.openxmlformats.org/drawingml/2006/table">
            <a:tbl>
              <a:tblPr/>
              <a:tblGrid>
                <a:gridCol w="1109520"/>
                <a:gridCol w="8372520"/>
                <a:gridCol w="1415880"/>
              </a:tblGrid>
              <a:tr h="64260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490320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Verdana"/>
                          <a:ea typeface="Times New Roman"/>
                        </a:rPr>
                        <a:t>1.1 to 1.6</a:t>
                      </a:r>
                      <a:endParaRPr b="0" lang="en-US" sz="12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1.1 Information about learner characteristics and their learning needs is gathered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1.2 A safe learning environment is confirmed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1.3 Learners are notified of the training details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1.4 Instruction and demonstration objectives are gathered and checked and assistance is sought if required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1.5 Relevant learning resources and learning materials are obtained and checked for relevance and assistance is sought if required in interpreting the contextual application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1.6 Any equipment or physical resources required for the demonstration are organised</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Verdana"/>
                          <a:ea typeface="Times New Roman"/>
                        </a:rPr>
                        <a:t> </a:t>
                      </a:r>
                      <a:endParaRPr b="0" lang="en-US" sz="12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Verdana"/>
                          <a:ea typeface="Times New Roman"/>
                        </a:rPr>
                        <a:t>E1</a:t>
                      </a:r>
                      <a:endParaRPr b="0" lang="en-US" sz="12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r h="36828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36828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r>
              <a:tr h="36828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4" name=""/>
          <p:cNvGraphicFramePr/>
          <p:nvPr/>
        </p:nvGraphicFramePr>
        <p:xfrm>
          <a:off x="162000" y="0"/>
          <a:ext cx="10899720" cy="6556320"/>
        </p:xfrm>
        <a:graphic>
          <a:graphicData uri="http://schemas.openxmlformats.org/drawingml/2006/table">
            <a:tbl>
              <a:tblPr/>
              <a:tblGrid>
                <a:gridCol w="1111320"/>
                <a:gridCol w="8370720"/>
                <a:gridCol w="141768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61837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760" rIns="6876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4.1 Tools and signals are used to determine readiness for closure of individual learning/facilitation relationship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4.2 The closure is carried out smoothly using appropriate interpersonal and communication skills</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4.3 Feedback is sought from the learner on the outcomes achieved and the value of the relationship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4.4 The impact of the learning/facilitation relationship is reviewed using identified evaluation processes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4.5 Self evaluation and reflection on own performance in managing the relationship is carried out and areas for improvement are identified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4.6 The outcomes of the learning/facilitation relationship and evaluation of the process are documented and filed in accordance with legal, organisational and personal requirements</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ea typeface="Times New Roman"/>
                        </a:rPr>
                        <a:t> </a:t>
                      </a:r>
                      <a:endParaRPr b="0" lang="en-US" sz="24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043000" y="0"/>
            <a:ext cx="7178760" cy="119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000080"/>
                </a:solidFill>
                <a:latin typeface="Verdana"/>
                <a:ea typeface="Times New Roman"/>
              </a:rPr>
              <a:t>TAADES402A</a:t>
            </a:r>
            <a:endParaRPr b="0" lang="en-US" sz="3200" spc="-1" strike="noStrike">
              <a:solidFill>
                <a:srgbClr val="000000"/>
              </a:solidFill>
              <a:latin typeface="Trebuchet MS"/>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80"/>
                </a:solidFill>
                <a:latin typeface="Verdana"/>
                <a:ea typeface="Times New Roman"/>
              </a:rPr>
              <a:t>Design and develop learning programs</a:t>
            </a:r>
            <a:r>
              <a:rPr b="0" lang="en-AU" sz="3200" spc="-1" strike="noStrike">
                <a:solidFill>
                  <a:srgbClr val="000000"/>
                </a:solidFill>
                <a:latin typeface="Times New Roman"/>
                <a:ea typeface="Times New Roman"/>
              </a:rPr>
              <a:t> </a:t>
            </a:r>
            <a:endParaRPr b="0" lang="en-US" sz="3200" spc="-1" strike="noStrike">
              <a:solidFill>
                <a:srgbClr val="000000"/>
              </a:solidFill>
              <a:latin typeface="Trebuchet MS"/>
            </a:endParaRPr>
          </a:p>
        </p:txBody>
      </p:sp>
      <p:graphicFrame>
        <p:nvGraphicFramePr>
          <p:cNvPr id="226" name=""/>
          <p:cNvGraphicFramePr/>
          <p:nvPr/>
        </p:nvGraphicFramePr>
        <p:xfrm>
          <a:off x="264960" y="1311120"/>
          <a:ext cx="10900080" cy="8817120"/>
        </p:xfrm>
        <a:graphic>
          <a:graphicData uri="http://schemas.openxmlformats.org/drawingml/2006/table">
            <a:tbl>
              <a:tblPr/>
              <a:tblGrid>
                <a:gridCol w="1111320"/>
                <a:gridCol w="8371080"/>
                <a:gridCol w="141768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844200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760" rIns="6876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1.1 Define the parameters of the learning program in consultation with the client/s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1.2 Competency standards or other relevant specifications on which to base the learning program are identified, accessed and confirmed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1.3 Competency standards/other relevant specifications are read, analysed and interpreted to determine specific learning objectives/outcomes/goals, and language, literacy and numeracy requirements</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4 The scope and breadth of the learning program is discussed and interpreted</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1.5 The target group learners and their characteristics are identified and considered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1.6 Other sources of information to support the learning program are identified and accessed</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1.7 The learning environment, operational resource requirements and safety implications are identified </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ea typeface="Times New Roman"/>
                        </a:rPr>
                        <a:t> </a:t>
                      </a:r>
                      <a:endParaRPr b="0" lang="en-US" sz="24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7" name=""/>
          <p:cNvGraphicFramePr/>
          <p:nvPr/>
        </p:nvGraphicFramePr>
        <p:xfrm>
          <a:off x="395280" y="485640"/>
          <a:ext cx="10898280" cy="3614760"/>
        </p:xfrm>
        <a:graphic>
          <a:graphicData uri="http://schemas.openxmlformats.org/drawingml/2006/table">
            <a:tbl>
              <a:tblPr/>
              <a:tblGrid>
                <a:gridCol w="1109520"/>
                <a:gridCol w="8372520"/>
                <a:gridCol w="141624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324252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1.5 The target group learners and their characteristics are identified and considered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1.6 Other sources of information to support the learning program are identified and accessed</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1.7 The learning environment, operational resource requirements and safety implications are identified </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ea typeface="Times New Roman"/>
                        </a:rPr>
                        <a:t> </a:t>
                      </a:r>
                      <a:endParaRPr b="0" lang="en-US" sz="24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8" name=""/>
          <p:cNvGraphicFramePr/>
          <p:nvPr/>
        </p:nvGraphicFramePr>
        <p:xfrm>
          <a:off x="0" y="266760"/>
          <a:ext cx="10898280" cy="6921360"/>
        </p:xfrm>
        <a:graphic>
          <a:graphicData uri="http://schemas.openxmlformats.org/drawingml/2006/table">
            <a:tbl>
              <a:tblPr/>
              <a:tblGrid>
                <a:gridCol w="1109520"/>
                <a:gridCol w="8372520"/>
                <a:gridCol w="1416240"/>
              </a:tblGrid>
              <a:tr h="64260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654948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2.1 Relevant learning strategy documentation is accessed and used to guide the learning program development, where appropriate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2.2 The competency/educational profile and learning styles of the target group learners are investigated to inform the learning program design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2.3 Research is conducted to identify existing learning programs and/or learning resources and learning materials which could be used and/or customised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2.4 A range of options for the learning program content is generated in collaboration with other persons and based on research findings and application of learning principles</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2.5 Broad time frames, possible costs and logistics of the learning program are considered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2.6 The information and ideas are evaluated and the most appropriate option/s selected </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ea typeface="Times New Roman"/>
                        </a:rPr>
                        <a:t> </a:t>
                      </a:r>
                      <a:endParaRPr b="0" lang="en-US" sz="24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9" name=""/>
          <p:cNvGraphicFramePr/>
          <p:nvPr/>
        </p:nvGraphicFramePr>
        <p:xfrm>
          <a:off x="227160" y="254160"/>
          <a:ext cx="10897920" cy="5697360"/>
        </p:xfrm>
        <a:graphic>
          <a:graphicData uri="http://schemas.openxmlformats.org/drawingml/2006/table">
            <a:tbl>
              <a:tblPr/>
              <a:tblGrid>
                <a:gridCol w="1109520"/>
                <a:gridCol w="8372520"/>
                <a:gridCol w="141588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532548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1 The specific subject matter content is researched, developed and documented in accordance with agreed design option/s and based on application of learning principles</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3.2 Existing learning resources, learning materials are accessed and evaluated for content relevance and quality</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3.3 Selected learning resources, learning materials are customised, where appropriate, to suit the learning purposes and audience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4 New, relevant and engaging learning activities and related learning materials are developed and documented, based on application of learning principles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5 In a learning and assessment pathway, assessment requirements for the learning program are specified </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ea typeface="Times New Roman"/>
                        </a:rPr>
                        <a:t> </a:t>
                      </a:r>
                      <a:endParaRPr b="0" lang="en-US" sz="24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0" name=""/>
          <p:cNvGraphicFramePr/>
          <p:nvPr/>
        </p:nvGraphicFramePr>
        <p:xfrm>
          <a:off x="252360" y="281160"/>
          <a:ext cx="10898280" cy="6489360"/>
        </p:xfrm>
        <a:graphic>
          <a:graphicData uri="http://schemas.openxmlformats.org/drawingml/2006/table">
            <a:tbl>
              <a:tblPr/>
              <a:tblGrid>
                <a:gridCol w="1109880"/>
                <a:gridCol w="8372160"/>
                <a:gridCol w="1416240"/>
              </a:tblGrid>
              <a:tr h="64260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611640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4.1 The learning content is broken into manageable chunks/segments of learning and sequenced appropriately to enhance and support effective learning and to enable achievement of identified criteria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4.2 The time frame for each segment is determined and the overall time frame is finalised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4.3 The delivery strategies and assessment methods and tools are determined/confirmed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4.4 Organisational requirements to implement the learning program are identified and documented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4.5 The learning program is finalised and documented, outlining each part of the program </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ea typeface="Times New Roman"/>
                        </a:rPr>
                        <a:t> </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1" name=""/>
          <p:cNvGraphicFramePr/>
          <p:nvPr/>
        </p:nvGraphicFramePr>
        <p:xfrm>
          <a:off x="368280" y="138240"/>
          <a:ext cx="10898280" cy="6064200"/>
        </p:xfrm>
        <a:graphic>
          <a:graphicData uri="http://schemas.openxmlformats.org/drawingml/2006/table">
            <a:tbl>
              <a:tblPr/>
              <a:tblGrid>
                <a:gridCol w="1109520"/>
                <a:gridCol w="8372520"/>
                <a:gridCol w="141624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568980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5.1 The learning program draft is reviewed in collaboration with key stakeholders using an appropriate evaluation tool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5.2 The evaluation feedback is gathered, summarised and analysed to enhance the quality of the content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5.3 The draft learning program is adjusted to reflect the review outcomes, where appropriate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5.4 Final approval is obtained from appropriate personnel</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5.5 The learning program documentation is held in an accessible form and updated on a regular basis following implementation and feedback </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ea typeface="Times New Roman"/>
                        </a:rPr>
                        <a:t> </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
          <p:cNvSpPr/>
          <p:nvPr/>
        </p:nvSpPr>
        <p:spPr>
          <a:xfrm>
            <a:off x="936720" y="0"/>
            <a:ext cx="9262800" cy="119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000080"/>
                </a:solidFill>
                <a:latin typeface="Verdana"/>
                <a:ea typeface="Times New Roman"/>
              </a:rPr>
              <a:t>TAAENV401A</a:t>
            </a:r>
            <a:endParaRPr b="0" lang="en-US" sz="3200" spc="-1" strike="noStrike">
              <a:solidFill>
                <a:srgbClr val="000000"/>
              </a:solidFill>
              <a:latin typeface="Trebuchet MS"/>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80"/>
                </a:solidFill>
                <a:latin typeface="Verdana"/>
                <a:ea typeface="Times New Roman"/>
              </a:rPr>
              <a:t>Work effectively in vocational education and training</a:t>
            </a:r>
            <a:r>
              <a:rPr b="0" lang="en-AU" sz="3200" spc="-1" strike="noStrike">
                <a:solidFill>
                  <a:srgbClr val="000000"/>
                </a:solidFill>
                <a:latin typeface="Times New Roman"/>
                <a:ea typeface="Times New Roman"/>
              </a:rPr>
              <a:t> </a:t>
            </a:r>
            <a:endParaRPr b="0" lang="en-US" sz="3200" spc="-1" strike="noStrike">
              <a:solidFill>
                <a:srgbClr val="000000"/>
              </a:solidFill>
              <a:latin typeface="Trebuchet MS"/>
            </a:endParaRPr>
          </a:p>
        </p:txBody>
      </p:sp>
      <p:graphicFrame>
        <p:nvGraphicFramePr>
          <p:cNvPr id="233" name=""/>
          <p:cNvGraphicFramePr/>
          <p:nvPr/>
        </p:nvGraphicFramePr>
        <p:xfrm>
          <a:off x="496800" y="1324080"/>
          <a:ext cx="10899720" cy="5140080"/>
        </p:xfrm>
        <a:graphic>
          <a:graphicData uri="http://schemas.openxmlformats.org/drawingml/2006/table">
            <a:tbl>
              <a:tblPr/>
              <a:tblGrid>
                <a:gridCol w="1111320"/>
                <a:gridCol w="8371080"/>
                <a:gridCol w="141732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47696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760" rIns="6876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1.1 Relevant national vocational education and training policies and frameworks are accessed, analysed and applied to guide work practices and responsibilities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1.2 Key vocational education and training organisations and stakeholders are identified and accessed to inform and update work practices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1.3 Commonwealth and state/territory legislation and guidelines are accessed and used to ensure work practices comply with policy requirements</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1.4 Sources of information and advice on vocational education and training policy and operating context are accessed on a regular basis and changes are noted </a:t>
                      </a:r>
                      <a:endParaRPr b="0" lang="en-US" sz="24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ea typeface="Times New Roman"/>
                        </a:rPr>
                        <a:t> </a:t>
                      </a:r>
                      <a:endParaRPr b="0" lang="en-US" sz="24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304920" y="165240"/>
          <a:ext cx="10897920" cy="2390760"/>
        </p:xfrm>
        <a:graphic>
          <a:graphicData uri="http://schemas.openxmlformats.org/drawingml/2006/table">
            <a:tbl>
              <a:tblPr/>
              <a:tblGrid>
                <a:gridCol w="1109520"/>
                <a:gridCol w="8372520"/>
                <a:gridCol w="141588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201924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1.5 Opportunities are taken up to contribute to vocational education and training organisational policy developments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1.6 Vocational education and training terminology is used to communicate effectively within the sector</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ea typeface="Times New Roman"/>
                        </a:rPr>
                        <a:t> </a:t>
                      </a:r>
                      <a:endParaRPr b="0" lang="en-US" sz="24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ea typeface="Times New Roman"/>
                        </a:rPr>
                        <a:t> </a:t>
                      </a:r>
                      <a:endParaRPr b="0" lang="en-US" sz="24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5" name=""/>
          <p:cNvGraphicFramePr/>
          <p:nvPr/>
        </p:nvGraphicFramePr>
        <p:xfrm>
          <a:off x="330120" y="150840"/>
          <a:ext cx="10898280" cy="7043760"/>
        </p:xfrm>
        <a:graphic>
          <a:graphicData uri="http://schemas.openxmlformats.org/drawingml/2006/table">
            <a:tbl>
              <a:tblPr/>
              <a:tblGrid>
                <a:gridCol w="1109880"/>
                <a:gridCol w="8372160"/>
                <a:gridCol w="141624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666972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1 Relevant organisational documentation is accessed and used to inform, support and guide work roles and responsibilities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2 Work is conducted in accordance with the training and/or assessment organisation's quality assurance strategies, processes, policies and procedures</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3 Ethical and legal responsibilities are adhered to in work practices</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4 Work is undertaken in accordance with prevailing industrial and employee relations systems and practices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5 Feedback and advice on work quality is actively sought from colleagues and clients </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ea typeface="Times New Roman"/>
                        </a:rPr>
                        <a:t> </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2360" y="538200"/>
          <a:ext cx="10898280" cy="5330880"/>
        </p:xfrm>
        <a:graphic>
          <a:graphicData uri="http://schemas.openxmlformats.org/drawingml/2006/table">
            <a:tbl>
              <a:tblPr/>
              <a:tblGrid>
                <a:gridCol w="1109880"/>
                <a:gridCol w="8372160"/>
                <a:gridCol w="141624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495972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2.1 Interpersonal skills are used to establish a safe and comfortable learning environment 2.2 The learning program and/or delivery plan is followed to ensure all learning objectives are covered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2.3 Learners are briefed on any occupational health and safety (OHS) procedures and requirements prior to and during training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2.4 Techniques are used to structure, pace and enhance learning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2.5 Communication skills are used to provide information, instruct learners and demonstrate relevant work skills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2.6 Opportunities for practice are provided during instruction and through work activities 2.7 Feedback on learner performance is provided and discussed to support learning </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ea typeface="Times New Roman"/>
                        </a:rPr>
                        <a:t> </a:t>
                      </a:r>
                      <a:endParaRPr b="0" lang="en-US" sz="24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
          <p:cNvGraphicFramePr/>
          <p:nvPr/>
        </p:nvGraphicFramePr>
        <p:xfrm>
          <a:off x="279360" y="114480"/>
          <a:ext cx="10898280" cy="6743520"/>
        </p:xfrm>
        <a:graphic>
          <a:graphicData uri="http://schemas.openxmlformats.org/drawingml/2006/table">
            <a:tbl>
              <a:tblPr/>
              <a:tblGrid>
                <a:gridCol w="1109880"/>
                <a:gridCol w="8372160"/>
                <a:gridCol w="1416240"/>
              </a:tblGrid>
              <a:tr h="64260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637128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1 Work is planned, prioritised and organised to achieve agreed and expected outcomes</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3.2 Workloads are assessed and guidance/support is sought from relevant personnel where work issues arise</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3.3 Relevant technological skills are used to enhance work outcomes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4 Work is undertaken in a collaborative manner with colleagues through sharing of information and ideas and working together on work outcomes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5 Feedback on managing work and professional relationships is obtained from clients and colleagues and is evaluated and acted upon </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ea typeface="Times New Roman"/>
                        </a:rPr>
                        <a:t> </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
          <p:cNvGraphicFramePr/>
          <p:nvPr/>
        </p:nvGraphicFramePr>
        <p:xfrm>
          <a:off x="239760" y="281160"/>
          <a:ext cx="10898280" cy="5565600"/>
        </p:xfrm>
        <a:graphic>
          <a:graphicData uri="http://schemas.openxmlformats.org/drawingml/2006/table">
            <a:tbl>
              <a:tblPr/>
              <a:tblGrid>
                <a:gridCol w="1109520"/>
                <a:gridCol w="8372520"/>
                <a:gridCol w="141624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519156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Times New Roman"/>
                          <a:ea typeface="Times New Roman"/>
                        </a:rPr>
                        <a:t>4.1 Clients and their needs and expectations form the basis for developing effective work practices and outcomes, within operational limits</a:t>
                      </a:r>
                      <a:endParaRPr b="0" lang="en-US" sz="32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Times New Roman"/>
                          <a:ea typeface="Times New Roman"/>
                        </a:rPr>
                        <a:t> </a:t>
                      </a:r>
                      <a:r>
                        <a:rPr b="0" lang="en-AU" sz="3200" spc="-1" strike="noStrike">
                          <a:solidFill>
                            <a:srgbClr val="000000"/>
                          </a:solidFill>
                          <a:latin typeface="Times New Roman"/>
                          <a:ea typeface="Times New Roman"/>
                        </a:rPr>
                        <a:t>4.2 Effective communication strategies are developed and utilised to establish and maintain client relationships </a:t>
                      </a:r>
                      <a:endParaRPr b="0" lang="en-US" sz="32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Times New Roman"/>
                          <a:ea typeface="Times New Roman"/>
                        </a:rPr>
                        <a:t>4.3 Processes for evaluating and improving client satisfaction are developed and built into work practices </a:t>
                      </a:r>
                      <a:endParaRPr b="0" lang="en-US" sz="32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Verdana"/>
                          <a:ea typeface="Times New Roman"/>
                        </a:rPr>
                        <a:t> </a:t>
                      </a:r>
                      <a:endParaRPr b="0" lang="en-US" sz="32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
          <p:cNvSpPr/>
          <p:nvPr/>
        </p:nvSpPr>
        <p:spPr>
          <a:xfrm>
            <a:off x="471600" y="0"/>
            <a:ext cx="9536040" cy="119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000080"/>
                </a:solidFill>
                <a:latin typeface="Verdana"/>
                <a:ea typeface="Times New Roman"/>
              </a:rPr>
              <a:t>TAAENV402A</a:t>
            </a:r>
            <a:endParaRPr b="0" lang="en-US" sz="3200" spc="-1" strike="noStrike">
              <a:solidFill>
                <a:srgbClr val="000000"/>
              </a:solidFill>
              <a:latin typeface="Trebuchet MS"/>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80"/>
                </a:solidFill>
                <a:latin typeface="Verdana"/>
                <a:ea typeface="Times New Roman"/>
              </a:rPr>
              <a:t>Foster and promote an inclusive learning culture</a:t>
            </a:r>
            <a:r>
              <a:rPr b="0" lang="en-AU" sz="3200" spc="-1" strike="noStrike">
                <a:solidFill>
                  <a:srgbClr val="000000"/>
                </a:solidFill>
                <a:latin typeface="Times New Roman"/>
                <a:ea typeface="Times New Roman"/>
              </a:rPr>
              <a:t> </a:t>
            </a:r>
            <a:endParaRPr b="0" lang="en-US" sz="3200" spc="-1" strike="noStrike">
              <a:solidFill>
                <a:srgbClr val="000000"/>
              </a:solidFill>
              <a:latin typeface="Trebuchet MS"/>
            </a:endParaRPr>
          </a:p>
        </p:txBody>
      </p:sp>
      <p:graphicFrame>
        <p:nvGraphicFramePr>
          <p:cNvPr id="239" name=""/>
          <p:cNvGraphicFramePr/>
          <p:nvPr/>
        </p:nvGraphicFramePr>
        <p:xfrm>
          <a:off x="471600" y="1400040"/>
          <a:ext cx="10899720" cy="4102200"/>
        </p:xfrm>
        <a:graphic>
          <a:graphicData uri="http://schemas.openxmlformats.org/drawingml/2006/table">
            <a:tbl>
              <a:tblPr/>
              <a:tblGrid>
                <a:gridCol w="1110960"/>
                <a:gridCol w="8371080"/>
                <a:gridCol w="1417680"/>
              </a:tblGrid>
              <a:tr h="64260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372996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760" rIns="6876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1.1 Individual differences and clients with particular needs are acknowledged, respected and valued</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2 Personal perceptions and attitudes about difference are examined and revised to improve communication and professionalism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1.3 Principles underpinning inclusivity are integrated into all work practices </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1.4 Individuals' rights and confidentiality are respected</a:t>
                      </a:r>
                      <a:endParaRPr b="0" lang="en-US" sz="28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0" name=""/>
          <p:cNvGraphicFramePr/>
          <p:nvPr/>
        </p:nvGraphicFramePr>
        <p:xfrm>
          <a:off x="239760" y="216000"/>
          <a:ext cx="10898280" cy="6916680"/>
        </p:xfrm>
        <a:graphic>
          <a:graphicData uri="http://schemas.openxmlformats.org/drawingml/2006/table">
            <a:tbl>
              <a:tblPr/>
              <a:tblGrid>
                <a:gridCol w="1109520"/>
                <a:gridCol w="8372520"/>
                <a:gridCol w="141624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654300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1 The ground rules for participation and behaviour with colleagues and clients are established through a cooperative, agreed process</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2 Individuals are encouraged to express themselves and to contribute to the work and learning environment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3 Individuals are provided with opportunities to indicate specific needs to support their participation in learning and work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4 Relevant research, guidelines and resources are accessed to support inclusivity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5 Verbal and body language is sensitive to different cultures and backgrounds and differences in physical and intellectual abilities</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ea typeface="Times New Roman"/>
                        </a:rPr>
                        <a:t> </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1" name=""/>
          <p:cNvGraphicFramePr/>
          <p:nvPr/>
        </p:nvGraphicFramePr>
        <p:xfrm>
          <a:off x="279360" y="198360"/>
          <a:ext cx="10898280" cy="6426360"/>
        </p:xfrm>
        <a:graphic>
          <a:graphicData uri="http://schemas.openxmlformats.org/drawingml/2006/table">
            <a:tbl>
              <a:tblPr/>
              <a:tblGrid>
                <a:gridCol w="1109880"/>
                <a:gridCol w="8372160"/>
                <a:gridCol w="1416240"/>
              </a:tblGrid>
              <a:tr h="64260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605304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3.1 Documented resources to support and guide inclusive practices are identified and used to inform work strategies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3.2 Support persons are identified and included in the work and learning process where appropriate and agreed to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3.3 Relevant professional support services are identified and accessed, as appropriate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3.4 Any physical environment support needs are acknowledged and incorporated into work practices, where practicable and approved by appropriate personnel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3.5 OHS issues associated with inclusivity are identified and addressed</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
          <p:cNvGraphicFramePr/>
          <p:nvPr/>
        </p:nvGraphicFramePr>
        <p:xfrm>
          <a:off x="380880" y="318960"/>
          <a:ext cx="10899720" cy="6062760"/>
        </p:xfrm>
        <a:graphic>
          <a:graphicData uri="http://schemas.openxmlformats.org/drawingml/2006/table">
            <a:tbl>
              <a:tblPr/>
              <a:tblGrid>
                <a:gridCol w="1111320"/>
                <a:gridCol w="8371080"/>
                <a:gridCol w="141732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568980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760" rIns="6876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4.1 Support and advice is provided to colleagues and clients to encourage new and ongoing participation in learning opportunities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4.2 The benefits of learning are explored with colleagues and clients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4.3 Learning and competency achievement is recognised and rewarded in the work and/or learning environment</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4.4 Opportunities to develop own and others generic skills are identified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4.5 Multiple pathways to achieve own and others future learning goals are discussed</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ea typeface="Times New Roman"/>
                        </a:rPr>
                        <a:t> </a:t>
                      </a:r>
                      <a:endParaRPr b="0" lang="en-US" sz="28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484200" y="434880"/>
          <a:ext cx="10898280" cy="5083200"/>
        </p:xfrm>
        <a:graphic>
          <a:graphicData uri="http://schemas.openxmlformats.org/drawingml/2006/table">
            <a:tbl>
              <a:tblPr/>
              <a:tblGrid>
                <a:gridCol w="1109520"/>
                <a:gridCol w="8372520"/>
                <a:gridCol w="141624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470988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5.1 Effective work practices to enhance inclusivity and a learning culture are identified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5.2 Conscious actions are taken to modify and improve work practices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5.3 Strategies and policies to support inclusivity are regularly reviewed as part of continuous improvement processes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5.4 Proposed changes to relevant strategies and policies are documented and reported to higher management</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ea typeface="Times New Roman"/>
                        </a:rPr>
                        <a:t> </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431640" y="0"/>
            <a:ext cx="10274400" cy="64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80"/>
                </a:solidFill>
                <a:latin typeface="Verdana"/>
                <a:ea typeface="Times New Roman"/>
              </a:rPr>
              <a:t>TAAENV403A</a:t>
            </a:r>
            <a:endParaRPr b="0" lang="en-US" sz="1400" spc="-1" strike="noStrike">
              <a:solidFill>
                <a:srgbClr val="000000"/>
              </a:solidFill>
              <a:latin typeface="Trebuchet MS"/>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400" spc="-1" strike="noStrike">
                <a:solidFill>
                  <a:srgbClr val="000080"/>
                </a:solidFill>
                <a:latin typeface="Verdana"/>
                <a:ea typeface="Times New Roman"/>
              </a:rPr>
              <a:t>Ensure a safe and healthy learning environment</a:t>
            </a:r>
            <a:r>
              <a:rPr b="0" lang="en-AU" sz="1400" spc="-1" strike="noStrike">
                <a:solidFill>
                  <a:srgbClr val="000000"/>
                </a:solidFill>
                <a:latin typeface="Times New Roman"/>
                <a:ea typeface="Times New Roman"/>
              </a:rPr>
              <a:t> </a:t>
            </a:r>
            <a:endParaRPr b="0" lang="en-US" sz="1400" spc="-1" strike="noStrike">
              <a:solidFill>
                <a:srgbClr val="000000"/>
              </a:solidFill>
              <a:latin typeface="Trebuchet MS"/>
            </a:endParaRPr>
          </a:p>
        </p:txBody>
      </p:sp>
      <p:pic>
        <p:nvPicPr>
          <p:cNvPr id="245" name="Power line accident due to ladder.AVI" descr=""/>
          <p:cNvPicPr/>
          <p:nvPr/>
        </p:nvPicPr>
        <p:blipFill>
          <a:blip r:embed="rId1"/>
          <a:stretch/>
        </p:blipFill>
        <p:spPr>
          <a:xfrm>
            <a:off x="2589120" y="798480"/>
            <a:ext cx="7824960" cy="586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45"/>
                    </p:tgtEl>
                  </p:cond>
                </p:stCondLst>
                <p:childTnLst>
                  <p:par>
                    <p:cTn id="3" fill="hold">
                      <p:stCondLst>
                        <p:cond evt="onClick">
                          <p:tgtEl>
                            <p:spTgt spid="24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Electric Fire 2.AVI" descr=""/>
          <p:cNvPicPr/>
          <p:nvPr/>
        </p:nvPicPr>
        <p:blipFill>
          <a:blip r:embed="rId1"/>
          <a:stretch/>
        </p:blipFill>
        <p:spPr>
          <a:xfrm>
            <a:off x="1969920" y="333360"/>
            <a:ext cx="8520120" cy="6391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46"/>
                    </p:tgtEl>
                  </p:cond>
                </p:stCondLst>
                <p:childTnLst>
                  <p:par>
                    <p:cTn id="9" fill="hold">
                      <p:stCondLst>
                        <p:cond evt="onClick">
                          <p:tgtEl>
                            <p:spTgt spid="246"/>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1566720" y="189000"/>
            <a:ext cx="8002800" cy="119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000080"/>
                </a:solidFill>
                <a:latin typeface="Verdana"/>
                <a:ea typeface="Times New Roman"/>
              </a:rPr>
              <a:t>TAAENV403A</a:t>
            </a:r>
            <a:endParaRPr b="0" lang="en-US" sz="3200" spc="-1" strike="noStrike">
              <a:solidFill>
                <a:srgbClr val="000000"/>
              </a:solidFill>
              <a:latin typeface="Trebuchet MS"/>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80"/>
                </a:solidFill>
                <a:latin typeface="Verdana"/>
                <a:ea typeface="Times New Roman"/>
              </a:rPr>
              <a:t>Ensure a safe and healthy learning environment</a:t>
            </a:r>
            <a:r>
              <a:rPr b="0" lang="en-AU" sz="3200" spc="-1" strike="noStrike">
                <a:solidFill>
                  <a:srgbClr val="000000"/>
                </a:solidFill>
                <a:latin typeface="Times New Roman"/>
                <a:ea typeface="Times New Roman"/>
              </a:rPr>
              <a:t> </a:t>
            </a:r>
            <a:endParaRPr b="0" lang="en-US" sz="3200" spc="-1" strike="noStrike">
              <a:solidFill>
                <a:srgbClr val="000000"/>
              </a:solidFill>
              <a:latin typeface="Trebuchet MS"/>
            </a:endParaRPr>
          </a:p>
        </p:txBody>
      </p:sp>
      <p:graphicFrame>
        <p:nvGraphicFramePr>
          <p:cNvPr id="248" name=""/>
          <p:cNvGraphicFramePr/>
          <p:nvPr/>
        </p:nvGraphicFramePr>
        <p:xfrm>
          <a:off x="395280" y="1395360"/>
          <a:ext cx="10898280" cy="4102200"/>
        </p:xfrm>
        <a:graphic>
          <a:graphicData uri="http://schemas.openxmlformats.org/drawingml/2006/table">
            <a:tbl>
              <a:tblPr/>
              <a:tblGrid>
                <a:gridCol w="1109520"/>
                <a:gridCol w="8372520"/>
                <a:gridCol w="1416240"/>
              </a:tblGrid>
              <a:tr h="64260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372996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1.1 The purpose and approaches of OHS in the learning environment are defined</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2 Documentation outlining the OHS legal responsibilities of the various parties in the learning environment is accessed, read and interpreted</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1.3 Organisational OHS documentation is identified and accessed</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ea typeface="Times New Roman"/>
                        </a:rPr>
                        <a:t> </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
          <p:cNvGraphicFramePr/>
          <p:nvPr/>
        </p:nvGraphicFramePr>
        <p:xfrm>
          <a:off x="304920" y="281160"/>
          <a:ext cx="10897920" cy="4101840"/>
        </p:xfrm>
        <a:graphic>
          <a:graphicData uri="http://schemas.openxmlformats.org/drawingml/2006/table">
            <a:tbl>
              <a:tblPr/>
              <a:tblGrid>
                <a:gridCol w="1109520"/>
                <a:gridCol w="8372520"/>
                <a:gridCol w="1415880"/>
              </a:tblGrid>
              <a:tr h="64260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372996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3.1 Measures are used to ensure learners are acquiring and can use new technical/generic skills and knowledge</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3.2 Personal delivery style and performance in providing instruction and demonstration is reviewed and strategies for improvement are reflected upon</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3.3 Learner records are maintained, stored and secured in accordance with legal/organisational requirements </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ea typeface="Times New Roman"/>
                        </a:rPr>
                        <a:t> </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
          <p:cNvGraphicFramePr/>
          <p:nvPr/>
        </p:nvGraphicFramePr>
        <p:xfrm>
          <a:off x="343080" y="254160"/>
          <a:ext cx="10897920" cy="6916680"/>
        </p:xfrm>
        <a:graphic>
          <a:graphicData uri="http://schemas.openxmlformats.org/drawingml/2006/table">
            <a:tbl>
              <a:tblPr/>
              <a:tblGrid>
                <a:gridCol w="1109520"/>
                <a:gridCol w="8372520"/>
                <a:gridCol w="141588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654300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1 Sources of information are researched and accessed to identify hazards common within the industry in which the learning and/or assessment will take place</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2 The learning environment is inspected prior to use and in consultation with various parties in order to identify hazards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3 Any specific OHS needs of learners and/or candidates are identified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4 Any potential hazards created by learners and/or candidates with specific needs are identified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5 Personal limitations and responsibilities in identifying hazards are recognised and specialist advisers are consulted when appropriate</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ea typeface="Times New Roman"/>
                        </a:rPr>
                        <a:t> </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0" name=""/>
          <p:cNvGraphicFramePr/>
          <p:nvPr/>
        </p:nvGraphicFramePr>
        <p:xfrm>
          <a:off x="291960" y="190440"/>
          <a:ext cx="10898280" cy="5083200"/>
        </p:xfrm>
        <a:graphic>
          <a:graphicData uri="http://schemas.openxmlformats.org/drawingml/2006/table">
            <a:tbl>
              <a:tblPr/>
              <a:tblGrid>
                <a:gridCol w="1109880"/>
                <a:gridCol w="8372520"/>
                <a:gridCol w="141588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470988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3.1 The likelihood of injury as a result of exposure to the identified hazard/s is assessed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3.2 The severity of any potential injury, illness or negative/adverse outcome arising from the identified hazard is assessed for risk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3.3 Hazards are prioritised for action in consultation with various parties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3.4 Personal limitations in assessing risks are recognised and specialist advisers are consulted when appropriate </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ea typeface="Times New Roman"/>
                        </a:rPr>
                        <a:t> </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
          <p:cNvGraphicFramePr/>
          <p:nvPr/>
        </p:nvGraphicFramePr>
        <p:xfrm>
          <a:off x="0" y="150840"/>
          <a:ext cx="10898280" cy="6064200"/>
        </p:xfrm>
        <a:graphic>
          <a:graphicData uri="http://schemas.openxmlformats.org/drawingml/2006/table">
            <a:tbl>
              <a:tblPr/>
              <a:tblGrid>
                <a:gridCol w="1109520"/>
                <a:gridCol w="8372520"/>
                <a:gridCol w="141624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568980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4.1 Risk controls are developed based on the hierarchy of control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4.2 A risk control action plan is identified and accessed or formulated in consultation with various parties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4.3 Actions within the control and responsibility of the trainer/facilitator and/or assessor are implemented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4.4 Outstanding risk control actions are referred to the various parties for implementation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4.5 Supervisory arrangements appropriate to learners and/or candidates levels of knowledge/skill/ experience are monitored to ensure their health and safety </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ea typeface="Times New Roman"/>
                        </a:rPr>
                        <a:t> </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
          <p:cNvGraphicFramePr/>
          <p:nvPr/>
        </p:nvGraphicFramePr>
        <p:xfrm>
          <a:off x="0" y="0"/>
          <a:ext cx="10898280" cy="4656240"/>
        </p:xfrm>
        <a:graphic>
          <a:graphicData uri="http://schemas.openxmlformats.org/drawingml/2006/table">
            <a:tbl>
              <a:tblPr/>
              <a:tblGrid>
                <a:gridCol w="1109520"/>
                <a:gridCol w="8372520"/>
                <a:gridCol w="141624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428328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5.1 Learners and/or candidates are provided with appropriate information related to OHS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5.2 Learners and/or candidates are assessed for knowledge of OHS requirements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5.3 Learners and/or candidates are supplied with personal protective equipment, if required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5.4 Learners and/or candidates are able to correctly use and maintain this, if required </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ea typeface="Times New Roman"/>
                        </a:rPr>
                        <a:t> </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3" name=""/>
          <p:cNvGraphicFramePr/>
          <p:nvPr/>
        </p:nvGraphicFramePr>
        <p:xfrm>
          <a:off x="304920" y="770040"/>
          <a:ext cx="10897920" cy="4101840"/>
        </p:xfrm>
        <a:graphic>
          <a:graphicData uri="http://schemas.openxmlformats.org/drawingml/2006/table">
            <a:tbl>
              <a:tblPr/>
              <a:tblGrid>
                <a:gridCol w="1109520"/>
                <a:gridCol w="8372520"/>
                <a:gridCol w="1415880"/>
              </a:tblGrid>
              <a:tr h="64260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372996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6.1 Achievement against the risk control action plan is monitored and any issues addressed</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6.2 The effectiveness and reliability of existing risk controls are confirmed with relevant parties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6.3 Effective hazard and incident reporting and investigation processes are confirmed on a continuing basis</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ea typeface="Times New Roman"/>
                        </a:rPr>
                        <a:t> </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able 3" descr=""/>
          <p:cNvPicPr/>
          <p:nvPr/>
        </p:nvPicPr>
        <p:blipFill>
          <a:blip r:embed="rId1"/>
          <a:stretch/>
        </p:blipFill>
        <p:spPr>
          <a:xfrm>
            <a:off x="487440" y="712800"/>
            <a:ext cx="9558360" cy="6254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able 1" descr=""/>
          <p:cNvPicPr/>
          <p:nvPr/>
        </p:nvPicPr>
        <p:blipFill>
          <a:blip r:embed="rId1"/>
          <a:stretch/>
        </p:blipFill>
        <p:spPr>
          <a:xfrm>
            <a:off x="487440" y="712800"/>
            <a:ext cx="9558360" cy="5261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able 1" descr=""/>
          <p:cNvPicPr/>
          <p:nvPr/>
        </p:nvPicPr>
        <p:blipFill>
          <a:blip r:embed="rId1"/>
          <a:stretch/>
        </p:blipFill>
        <p:spPr>
          <a:xfrm>
            <a:off x="487440" y="712800"/>
            <a:ext cx="9558360" cy="5492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7" name=""/>
          <p:cNvGraphicFramePr/>
          <p:nvPr/>
        </p:nvGraphicFramePr>
        <p:xfrm>
          <a:off x="420840" y="515880"/>
          <a:ext cx="9727920" cy="6048360"/>
        </p:xfrm>
        <a:graphic>
          <a:graphicData uri="http://schemas.openxmlformats.org/drawingml/2006/table">
            <a:tbl>
              <a:tblPr/>
              <a:tblGrid>
                <a:gridCol w="271440"/>
                <a:gridCol w="2079360"/>
                <a:gridCol w="2079720"/>
                <a:gridCol w="2081160"/>
                <a:gridCol w="3216240"/>
              </a:tblGrid>
              <a:tr h="6048360">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5</a:t>
                      </a:r>
                      <a:endParaRPr b="0" lang="en-US" sz="28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utonomous learner who accesses and evaluates support from a broad range of sources</a:t>
                      </a:r>
                      <a:endParaRPr b="0" lang="en-US" sz="28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Broad range of contexts</a:t>
                      </a:r>
                      <a:endParaRPr b="0" lang="en-US" sz="2800" spc="-1" strike="noStrike">
                        <a:solidFill>
                          <a:srgbClr val="000000"/>
                        </a:solidFill>
                        <a:latin typeface="Trebuchet MS"/>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aptability within and across contexts</a:t>
                      </a:r>
                      <a:endParaRPr b="0" lang="en-US" sz="2800" spc="-1" strike="noStrike">
                        <a:solidFill>
                          <a:srgbClr val="000000"/>
                        </a:solidFill>
                        <a:latin typeface="Trebuchet MS"/>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pecialisation in one or more contexts</a:t>
                      </a:r>
                      <a:endParaRPr b="0" lang="en-US" sz="28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Highly complex texts</a:t>
                      </a:r>
                      <a:endParaRPr b="0" lang="en-US" sz="2800" spc="-1" strike="noStrike">
                        <a:solidFill>
                          <a:srgbClr val="000000"/>
                        </a:solidFill>
                        <a:latin typeface="Trebuchet MS"/>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Highly embedded information</a:t>
                      </a:r>
                      <a:endParaRPr b="0" lang="en-US" sz="2800" spc="-1" strike="noStrike">
                        <a:solidFill>
                          <a:srgbClr val="000000"/>
                        </a:solidFill>
                        <a:latin typeface="Trebuchet MS"/>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ncludes highly specialized language and symbolism</a:t>
                      </a:r>
                      <a:endParaRPr b="0" lang="en-US" sz="28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ophisticated task conceptualisation, organisation and analysis</a:t>
                      </a:r>
                      <a:endParaRPr b="0" lang="en-US" sz="2800" spc="-1" strike="noStrike">
                        <a:solidFill>
                          <a:srgbClr val="000000"/>
                        </a:solidFill>
                        <a:latin typeface="Trebuchet MS"/>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rocesses include synthesising, critically reflecting, evaluating, recommending</a:t>
                      </a:r>
                      <a:endParaRPr b="0" lang="en-US" sz="28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8" name=""/>
          <p:cNvGraphicFramePr/>
          <p:nvPr/>
        </p:nvGraphicFramePr>
        <p:xfrm>
          <a:off x="395280" y="1139760"/>
          <a:ext cx="8596440" cy="4876920"/>
        </p:xfrm>
        <a:graphic>
          <a:graphicData uri="http://schemas.openxmlformats.org/drawingml/2006/table">
            <a:tbl>
              <a:tblPr/>
              <a:tblGrid>
                <a:gridCol w="1301760"/>
                <a:gridCol w="2433600"/>
                <a:gridCol w="2428920"/>
                <a:gridCol w="2432160"/>
              </a:tblGrid>
              <a:tr h="610200">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EXT TYPE</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ERSONAL AND COMMUNITY</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WORKPLACE AND EMPLOYMENT</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DUCATION AND TRAINING</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915120">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rocedural</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Recipe</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andard operating procedures</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Instructions for completing assessment task</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2134800">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ersuasive</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mail to local council complaining about cat registration bylaws</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Report for CEO presenting argument and recommendations for a particular piece of new equipment</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Oral presentation on an issue in area of study/expertise</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1220040">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Informative</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Club newsletter</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Report on different approaches to risk management used in the industry</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Research paper on main developments in OHS in the last 20 years</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1413000" y="0"/>
            <a:ext cx="7769160" cy="119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000080"/>
                </a:solidFill>
                <a:latin typeface="Verdana"/>
                <a:ea typeface="Times New Roman"/>
              </a:rPr>
              <a:t>TAADEL401A</a:t>
            </a:r>
            <a:endParaRPr b="0" lang="en-US" sz="3200" spc="-1" strike="noStrike">
              <a:solidFill>
                <a:srgbClr val="000000"/>
              </a:solidFill>
              <a:latin typeface="Trebuchet MS"/>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80"/>
                </a:solidFill>
                <a:latin typeface="Verdana"/>
                <a:ea typeface="Times New Roman"/>
              </a:rPr>
              <a:t>Plan and organise group-based delivery</a:t>
            </a:r>
            <a:r>
              <a:rPr b="0" lang="en-AU" sz="3200" spc="-1" strike="noStrike">
                <a:solidFill>
                  <a:srgbClr val="000000"/>
                </a:solidFill>
                <a:latin typeface="Times New Roman"/>
                <a:ea typeface="Times New Roman"/>
              </a:rPr>
              <a:t> </a:t>
            </a:r>
            <a:endParaRPr b="0" lang="en-US" sz="3200" spc="-1" strike="noStrike">
              <a:solidFill>
                <a:srgbClr val="000000"/>
              </a:solidFill>
              <a:latin typeface="Trebuchet MS"/>
            </a:endParaRPr>
          </a:p>
        </p:txBody>
      </p:sp>
      <p:graphicFrame>
        <p:nvGraphicFramePr>
          <p:cNvPr id="217" name=""/>
          <p:cNvGraphicFramePr/>
          <p:nvPr/>
        </p:nvGraphicFramePr>
        <p:xfrm>
          <a:off x="368280" y="1130400"/>
          <a:ext cx="10898280" cy="5824440"/>
        </p:xfrm>
        <a:graphic>
          <a:graphicData uri="http://schemas.openxmlformats.org/drawingml/2006/table">
            <a:tbl>
              <a:tblPr/>
              <a:tblGrid>
                <a:gridCol w="1109520"/>
                <a:gridCol w="8372520"/>
                <a:gridCol w="141624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545220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1.1 The learning context is established and the organisational arrangements for delivery are confirmed</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1.2 The learning program documentation is accessed, read and interpreted to determine delivery requirements</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1.3 Group and individual learning needs and learner characteristics are identified using available information and documentation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1.4 Processes to identify learner support requirements are undertaken</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1.5 Constraints and risks to delivery are identified and assessed</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1.6 Personal role and responsibilities in the planning, delivery and review of training are confirmed with relevant personnel</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ea typeface="Times New Roman"/>
                        </a:rPr>
                        <a:t> </a:t>
                      </a:r>
                      <a:endParaRPr b="0" lang="en-US" sz="24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
          <p:cNvGraphicFramePr/>
          <p:nvPr/>
        </p:nvGraphicFramePr>
        <p:xfrm>
          <a:off x="395280" y="1139760"/>
          <a:ext cx="8596440" cy="3048120"/>
        </p:xfrm>
        <a:graphic>
          <a:graphicData uri="http://schemas.openxmlformats.org/drawingml/2006/table">
            <a:tbl>
              <a:tblPr/>
              <a:tblGrid>
                <a:gridCol w="1301760"/>
                <a:gridCol w="2433600"/>
                <a:gridCol w="2428920"/>
                <a:gridCol w="2432160"/>
              </a:tblGrid>
              <a:tr h="610200">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Creative</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em</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ign project</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dvertising copy or short story</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1220040">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echnical</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lanation of parts of a camera</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Instruction manual for a new piece of equipment</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Report on advantages of a new computer system in a library</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610200">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Regulatory</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Council planning permission form</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Industry standards list</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Course completion requirements</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610200">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Recount of trip to botanic gardens</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Memo outlining new office furniture</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ssay comparing two paintings</a:t>
                      </a:r>
                      <a:endParaRPr b="0" lang="en-US" sz="20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
          <p:cNvSpPr/>
          <p:nvPr/>
        </p:nvSpPr>
        <p:spPr>
          <a:xfrm>
            <a:off x="708120" y="181080"/>
            <a:ext cx="8435880" cy="578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d2232a"/>
                </a:solidFill>
                <a:latin typeface="Arial Bold"/>
                <a:ea typeface="Arial Bold"/>
              </a:rPr>
              <a:t>Indicators</a:t>
            </a:r>
            <a:endParaRPr b="0" lang="en-US" sz="2400" spc="-1" strike="noStrike">
              <a:solidFill>
                <a:srgbClr val="000000"/>
              </a:solidFill>
              <a:latin typeface="Trebuchet MS"/>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SimSun"/>
              </a:rPr>
              <a:t>Indicators are statements that briefly describe performance at each level of the five core skills. There are 11 Indicators; two each for Learning, Reading, Writing and Oral Communication and three for Numeracy (see Table 3).</a:t>
            </a:r>
            <a:endParaRPr b="0" lang="en-US" sz="2400" spc="-1" strike="noStrike">
              <a:solidFill>
                <a:srgbClr val="000000"/>
              </a:solidFill>
              <a:latin typeface="Trebuchet MS"/>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SimSun"/>
              </a:rPr>
              <a:t>Learning, Reading and Writing:</a:t>
            </a:r>
            <a:endParaRPr b="0" lang="en-US" sz="2400" spc="-1" strike="noStrike">
              <a:solidFill>
                <a:srgbClr val="000000"/>
              </a:solidFill>
              <a:latin typeface="Trebuchet MS"/>
            </a:endParaRPr>
          </a:p>
          <a:p>
            <a:pPr>
              <a:lnSpc>
                <a:spcPct val="100000"/>
              </a:lnSpc>
              <a:spcBef>
                <a:spcPts val="601"/>
              </a:spcBef>
              <a:buClr>
                <a:srgbClr val="000000"/>
              </a:buClr>
              <a:buSzPct val="41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SimSun"/>
              </a:rPr>
              <a:t>the first Indicator describes a person's performance in terms of goals/purposes, meaning-making and overall management of the process</a:t>
            </a:r>
            <a:endParaRPr b="0" lang="en-US" sz="2400" spc="-1" strike="noStrike">
              <a:solidFill>
                <a:srgbClr val="000000"/>
              </a:solidFill>
              <a:latin typeface="Trebuchet MS"/>
            </a:endParaRPr>
          </a:p>
          <a:p>
            <a:pPr>
              <a:lnSpc>
                <a:spcPct val="100000"/>
              </a:lnSpc>
              <a:spcBef>
                <a:spcPts val="601"/>
              </a:spcBef>
              <a:buClr>
                <a:srgbClr val="000000"/>
              </a:buClr>
              <a:buSzPct val="41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SimSun"/>
              </a:rPr>
              <a:t>the second Indicator focuses on practical strategies to assist with achieving the desired outcomes.</a:t>
            </a:r>
            <a:endParaRPr b="0" lang="en-US" sz="2400" spc="-1" strike="noStrike">
              <a:solidFill>
                <a:srgbClr val="000000"/>
              </a:solidFill>
              <a:latin typeface="Trebuchet MS"/>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SimSun"/>
              </a:rPr>
              <a:t>Oral Communication:</a:t>
            </a:r>
            <a:endParaRPr b="0" lang="en-US" sz="2400" spc="-1" strike="noStrike">
              <a:solidFill>
                <a:srgbClr val="000000"/>
              </a:solidFill>
              <a:latin typeface="Trebuchet MS"/>
            </a:endParaRPr>
          </a:p>
          <a:p>
            <a:pPr>
              <a:lnSpc>
                <a:spcPct val="100000"/>
              </a:lnSpc>
              <a:spcBef>
                <a:spcPts val="601"/>
              </a:spcBef>
              <a:buClr>
                <a:srgbClr val="000000"/>
              </a:buClr>
              <a:buSzPct val="41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SimSun"/>
              </a:rPr>
              <a:t>the first Indicator focuses on speaking</a:t>
            </a:r>
            <a:endParaRPr b="0" lang="en-US" sz="2400" spc="-1" strike="noStrike">
              <a:solidFill>
                <a:srgbClr val="000000"/>
              </a:solidFill>
              <a:latin typeface="Trebuchet MS"/>
            </a:endParaRPr>
          </a:p>
          <a:p>
            <a:pPr>
              <a:lnSpc>
                <a:spcPct val="100000"/>
              </a:lnSpc>
              <a:spcBef>
                <a:spcPts val="601"/>
              </a:spcBef>
              <a:buClr>
                <a:srgbClr val="000000"/>
              </a:buClr>
              <a:buSzPct val="41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SimSun"/>
              </a:rPr>
              <a:t>the second Indicator focuses on listening.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
          <p:cNvSpPr/>
          <p:nvPr/>
        </p:nvSpPr>
        <p:spPr>
          <a:xfrm>
            <a:off x="914400" y="244440"/>
            <a:ext cx="8229600" cy="632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SimSun"/>
              </a:rPr>
              <a:t>Numeracy:</a:t>
            </a:r>
            <a:endParaRPr b="0" lang="en-US" sz="2400" spc="-1" strike="noStrike">
              <a:solidFill>
                <a:srgbClr val="000000"/>
              </a:solidFill>
              <a:latin typeface="Trebuchet MS"/>
            </a:endParaRPr>
          </a:p>
          <a:p>
            <a:pPr>
              <a:lnSpc>
                <a:spcPct val="100000"/>
              </a:lnSpc>
              <a:spcBef>
                <a:spcPts val="601"/>
              </a:spcBef>
              <a:buClr>
                <a:srgbClr val="000000"/>
              </a:buClr>
              <a:buSzPct val="41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SimSun"/>
              </a:rPr>
              <a:t>the first Indicator focuses on identifying (through reading, observing or listening) what mathematics is required</a:t>
            </a:r>
            <a:endParaRPr b="0" lang="en-US" sz="2400" spc="-1" strike="noStrike">
              <a:solidFill>
                <a:srgbClr val="000000"/>
              </a:solidFill>
              <a:latin typeface="Trebuchet MS"/>
            </a:endParaRPr>
          </a:p>
          <a:p>
            <a:pPr>
              <a:lnSpc>
                <a:spcPct val="100000"/>
              </a:lnSpc>
              <a:spcBef>
                <a:spcPts val="601"/>
              </a:spcBef>
              <a:buClr>
                <a:srgbClr val="000000"/>
              </a:buClr>
              <a:buSzPct val="41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SimSun"/>
              </a:rPr>
              <a:t>the second Indicator focuses on mathematical procedures and processes</a:t>
            </a:r>
            <a:endParaRPr b="0" lang="en-US" sz="2400" spc="-1" strike="noStrike">
              <a:solidFill>
                <a:srgbClr val="000000"/>
              </a:solidFill>
              <a:latin typeface="Trebuchet MS"/>
            </a:endParaRPr>
          </a:p>
          <a:p>
            <a:pPr>
              <a:lnSpc>
                <a:spcPct val="100000"/>
              </a:lnSpc>
              <a:spcBef>
                <a:spcPts val="601"/>
              </a:spcBef>
              <a:buClr>
                <a:srgbClr val="000000"/>
              </a:buClr>
              <a:buSzPct val="41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SimSun"/>
              </a:rPr>
              <a:t>the third Indicator focuses on representing and communicating the mathematics.</a:t>
            </a:r>
            <a:endParaRPr b="0" lang="en-US" sz="2400" spc="-1" strike="noStrike">
              <a:solidFill>
                <a:srgbClr val="000000"/>
              </a:solidFill>
              <a:latin typeface="Trebuchet MS"/>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SimSun"/>
              </a:rPr>
              <a:t>In all cases, it is important to recognise the critical interplay between the Indicators.</a:t>
            </a:r>
            <a:endParaRPr b="0" lang="en-US" sz="2400" spc="-1" strike="noStrike">
              <a:solidFill>
                <a:srgbClr val="000000"/>
              </a:solidFill>
              <a:latin typeface="Trebuchet MS"/>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SimSun"/>
              </a:rPr>
              <a:t>The Indicators are numbered according to the core skill, using a decimal system in which the whole number refers to the level and the decimal component to the core skill. For example, someone who has demonstrated level 1 in Learning will have achieved both 1.01 and 1.02. Someone exiting at Learning level 4 will have achieved both 4.01 and 4.0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
          <p:cNvGraphicFramePr/>
          <p:nvPr/>
        </p:nvGraphicFramePr>
        <p:xfrm>
          <a:off x="231840" y="260280"/>
          <a:ext cx="10779120" cy="4389480"/>
        </p:xfrm>
        <a:graphic>
          <a:graphicData uri="http://schemas.openxmlformats.org/drawingml/2006/table">
            <a:tbl>
              <a:tblPr/>
              <a:tblGrid>
                <a:gridCol w="2574720"/>
                <a:gridCol w="1146240"/>
                <a:gridCol w="7058160"/>
              </a:tblGrid>
              <a:tr h="366120">
                <a:tc gridSpan="3">
                  <a:txBody>
                    <a:bodyPr lIns="25560" rIns="25560" tIns="0" bIns="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CSF PERFORMANCE INDICATORS</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463400">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Core Skill</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dicator Number</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ption</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731880">
                <a:tc rowSpan="2">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Learning</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01</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ctive awareness of self as a learner, planning and management of learning</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73188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02</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cquisition and application of practical strategies that facilitate learning</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366120">
                <a:tc rowSpan="2">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ading</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03</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udience, purpose and meaning-making</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36612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04</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ading strategies</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366120">
                <a:tc rowSpan="2">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riting</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05</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udience, purpose and meaning-making</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36612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06</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The mechanics of writing</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3" name=""/>
          <p:cNvGraphicFramePr/>
          <p:nvPr/>
        </p:nvGraphicFramePr>
        <p:xfrm>
          <a:off x="677880" y="2160720"/>
          <a:ext cx="10779120" cy="2560680"/>
        </p:xfrm>
        <a:graphic>
          <a:graphicData uri="http://schemas.openxmlformats.org/drawingml/2006/table">
            <a:tbl>
              <a:tblPr/>
              <a:tblGrid>
                <a:gridCol w="2575080"/>
                <a:gridCol w="1145880"/>
                <a:gridCol w="7058160"/>
              </a:tblGrid>
              <a:tr h="366120">
                <a:tc rowSpan="2">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Oral Communication</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07</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peaking</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73188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08</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Listening</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731880">
                <a:tc rowSpan="3">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Numeracy</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09</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dentifying mathematical information and meaning in activities and texts</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73188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10</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Using and applying mathematical knowledge and problem solving processes</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366120">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11</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25560" rIns="25560" tIns="0" bIns="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Communicating and representing mathematics</a:t>
                      </a:r>
                      <a:endParaRPr b="0" lang="en-US" sz="2400" spc="-1" strike="noStrike">
                        <a:solidFill>
                          <a:srgbClr val="000000"/>
                        </a:solidFill>
                        <a:latin typeface="Trebuchet MS"/>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0" y="145440"/>
            <a:ext cx="20964600" cy="54108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2232a"/>
                </a:solidFill>
                <a:latin typeface="Arial"/>
                <a:ea typeface="Arial Bold"/>
              </a:rPr>
              <a:t>Overview of the ACSF</a:t>
            </a:r>
            <a:endParaRPr b="0" lang="en-US" sz="1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Diagram 1 illustrates the structure and components of each of the five core skills in the ACSF.</a:t>
            </a:r>
            <a:endParaRPr b="0" lang="en-US" sz="900" spc="-1" strike="noStrike">
              <a:solidFill>
                <a:srgbClr val="000000"/>
              </a:solidFill>
              <a:latin typeface="Trebuchet MS"/>
            </a:endParaRPr>
          </a:p>
        </p:txBody>
      </p:sp>
      <p:pic>
        <p:nvPicPr>
          <p:cNvPr id="265" name="Picture 1" descr="This diagram shows an overview of the ASCF. The five core skills are listed on the left of the diagram, and the right of the diagram lists the performance variables (support, context, text complexity, and task complexity), performance descriptors (indicators, focus areas, performance features, and sample activities) and the domains of communication (personal and community, workplace and employment, and education and training)."/>
          <p:cNvPicPr/>
          <p:nvPr/>
        </p:nvPicPr>
        <p:blipFill>
          <a:blip r:embed="rId1"/>
          <a:stretch/>
        </p:blipFill>
        <p:spPr>
          <a:xfrm>
            <a:off x="0" y="457200"/>
            <a:ext cx="11549160" cy="5530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6" name=""/>
          <p:cNvGraphicFramePr/>
          <p:nvPr/>
        </p:nvGraphicFramePr>
        <p:xfrm>
          <a:off x="407880" y="146160"/>
          <a:ext cx="10771200" cy="6746760"/>
        </p:xfrm>
        <a:graphic>
          <a:graphicData uri="http://schemas.openxmlformats.org/drawingml/2006/table">
            <a:tbl>
              <a:tblPr/>
              <a:tblGrid>
                <a:gridCol w="1163880"/>
                <a:gridCol w="268200"/>
                <a:gridCol w="1623960"/>
                <a:gridCol w="1198440"/>
                <a:gridCol w="114480"/>
                <a:gridCol w="1735200"/>
                <a:gridCol w="2284200"/>
                <a:gridCol w="2382840"/>
              </a:tblGrid>
              <a:tr h="84132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4">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Core skills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gridSpan="3">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Example tasks against ACSF performance levels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26180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2">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                                              </a:t>
                      </a:r>
                      <a:r>
                        <a:rPr b="0" lang="en-AU" sz="2400" spc="-1" strike="noStrike">
                          <a:solidFill>
                            <a:srgbClr val="000000"/>
                          </a:solidFill>
                          <a:latin typeface="Trebuchet MS"/>
                        </a:rPr>
                        <a:t>Level 1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Level 2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2">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Level 3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Level 4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Level 5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252324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Writing</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Write name and time of signing on a time sheet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2">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Write a telephone message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Complete an accident report form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Write minutes from a safety meeting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Write a Job Safety Analysis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210276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2">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Write name, address and simple personal details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Fill in a leave form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2">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Write a set of procedures for a work task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Write an email summarising work progress to members of the work team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Prepare job specifications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7" name=""/>
          <p:cNvGraphicFramePr/>
          <p:nvPr/>
        </p:nvGraphicFramePr>
        <p:xfrm>
          <a:off x="0" y="318960"/>
          <a:ext cx="11746080" cy="4826160"/>
        </p:xfrm>
        <a:graphic>
          <a:graphicData uri="http://schemas.openxmlformats.org/drawingml/2006/table">
            <a:tbl>
              <a:tblPr/>
              <a:tblGrid>
                <a:gridCol w="2158920"/>
                <a:gridCol w="146160"/>
                <a:gridCol w="1288080"/>
                <a:gridCol w="705960"/>
                <a:gridCol w="808920"/>
                <a:gridCol w="1118160"/>
                <a:gridCol w="1751400"/>
                <a:gridCol w="3768480"/>
              </a:tblGrid>
              <a:tr h="50760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700" spc="-1" strike="noStrike">
                          <a:solidFill>
                            <a:srgbClr val="000000"/>
                          </a:solidFill>
                          <a:latin typeface="Trebuchet MS"/>
                        </a:rPr>
                        <a:t> </a:t>
                      </a:r>
                      <a:endParaRPr b="0" lang="en-US" sz="7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4">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Trebuchet MS"/>
                        </a:rPr>
                        <a:t>Core skills </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gridSpan="3">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Trebuchet MS"/>
                        </a:rPr>
                        <a:t>Example tasks against ACSF performance levels </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70164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4">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Gothic"/>
                          <a:ea typeface="Calibri"/>
                        </a:rPr>
                        <a:t>        </a:t>
                      </a:r>
                      <a:r>
                        <a:rPr b="0" lang="en-US" sz="2000" spc="-1" strike="noStrike">
                          <a:solidFill>
                            <a:srgbClr val="000000"/>
                          </a:solidFill>
                          <a:latin typeface="Century Gothic"/>
                          <a:ea typeface="Calibri"/>
                        </a:rPr>
                        <a:t>1                    2                  </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gridSpan="3">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Gothic"/>
                          <a:ea typeface="Calibri"/>
                        </a:rPr>
                        <a:t>3               4                        5</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8054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Trebuchet MS"/>
                        </a:rPr>
                        <a:t>Oral communication</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700" spc="-1" strike="noStrike">
                          <a:solidFill>
                            <a:srgbClr val="000000"/>
                          </a:solidFill>
                          <a:latin typeface="Trebuchet MS"/>
                        </a:rPr>
                        <a:t> </a:t>
                      </a:r>
                      <a:endParaRPr b="0" lang="en-US" sz="7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Trebuchet MS"/>
                        </a:rPr>
                        <a:t>Introduce self to others in a group </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2">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Trebuchet MS"/>
                        </a:rPr>
                        <a:t>Listen to a series of instructions and accurately repeat them to a colleague </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Trebuchet MS"/>
                        </a:rPr>
                        <a:t>Listen and respond to a routine request </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Trebuchet MS"/>
                        </a:rPr>
                        <a:t>Deliver a presentation about a workplace procedure </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Trebuchet MS"/>
                        </a:rPr>
                        <a:t>Interview an applicant for a job </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4060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600" spc="-1" strike="noStrike">
                          <a:solidFill>
                            <a:srgbClr val="000000"/>
                          </a:solidFill>
                          <a:latin typeface="Trebuchet MS"/>
                        </a:rPr>
                        <a:t> </a:t>
                      </a:r>
                      <a:endParaRPr b="0" lang="en-US" sz="6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2">
                  <a:txBody>
                    <a:bodyPr lIns="55080" rIns="5508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55080" rIns="5508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2">
                  <a:txBody>
                    <a:bodyPr lIns="55080" rIns="5508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55080" rIns="5508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40536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600" spc="-1" strike="noStrike">
                          <a:solidFill>
                            <a:srgbClr val="000000"/>
                          </a:solidFill>
                          <a:latin typeface="Trebuchet MS"/>
                        </a:rPr>
                        <a:t> </a:t>
                      </a:r>
                      <a:endParaRPr b="0" lang="en-US" sz="6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2">
                  <a:txBody>
                    <a:bodyPr lIns="55080" rIns="5508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55080" rIns="5508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2">
                  <a:txBody>
                    <a:bodyPr lIns="55080" rIns="5508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55080" rIns="5508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8" name=""/>
          <p:cNvGraphicFramePr/>
          <p:nvPr/>
        </p:nvGraphicFramePr>
        <p:xfrm>
          <a:off x="322200" y="1287360"/>
          <a:ext cx="10801440" cy="4765680"/>
        </p:xfrm>
        <a:graphic>
          <a:graphicData uri="http://schemas.openxmlformats.org/drawingml/2006/table">
            <a:tbl>
              <a:tblPr/>
              <a:tblGrid>
                <a:gridCol w="1674720"/>
                <a:gridCol w="2880000"/>
                <a:gridCol w="2001600"/>
                <a:gridCol w="1725840"/>
                <a:gridCol w="2519280"/>
              </a:tblGrid>
              <a:tr h="36036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Gothic"/>
                          <a:ea typeface="Calibri"/>
                        </a:rPr>
                        <a:t>1</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Gothic"/>
                          <a:ea typeface="Calibri"/>
                        </a:rPr>
                        <a:t>2</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Gothic"/>
                          <a:ea typeface="Calibri"/>
                        </a:rPr>
                        <a:t>3</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Gothic"/>
                          <a:ea typeface="Calibri"/>
                        </a:rPr>
                        <a:t>4</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Gothic"/>
                          <a:ea typeface="Calibri"/>
                        </a:rPr>
                        <a:t>5</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440532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Trebuchet MS"/>
                        </a:rPr>
                        <a:t>Follow simple verbal instructions for a work task </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Trebuchet MS"/>
                        </a:rPr>
                        <a:t>Follow a series of instructions related to a job </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Trebuchet MS"/>
                        </a:rPr>
                        <a:t>Explain basic technical procedures to a new worker </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Trebuchet MS"/>
                        </a:rPr>
                        <a:t>Listen to a colleague’s complaint and paraphrase the problem </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Trebuchet MS"/>
                        </a:rPr>
                        <a:t>Present a report drawing on current research </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bl>
          </a:graphicData>
        </a:graphic>
      </p:graphicFrame>
      <p:sp>
        <p:nvSpPr>
          <p:cNvPr id="269" name="Rectangle 2"/>
          <p:cNvSpPr/>
          <p:nvPr/>
        </p:nvSpPr>
        <p:spPr>
          <a:xfrm>
            <a:off x="295920" y="325440"/>
            <a:ext cx="2378160" cy="409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Oral communication</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0" name=""/>
          <p:cNvGraphicFramePr/>
          <p:nvPr/>
        </p:nvGraphicFramePr>
        <p:xfrm>
          <a:off x="0" y="1312920"/>
          <a:ext cx="13320720" cy="2333520"/>
        </p:xfrm>
        <a:graphic>
          <a:graphicData uri="http://schemas.openxmlformats.org/drawingml/2006/table">
            <a:tbl>
              <a:tblPr/>
              <a:tblGrid>
                <a:gridCol w="2879640"/>
                <a:gridCol w="3600360"/>
                <a:gridCol w="2521080"/>
                <a:gridCol w="1800360"/>
                <a:gridCol w="2519280"/>
              </a:tblGrid>
              <a:tr h="42084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ea typeface="Calibri"/>
                        </a:rPr>
                        <a:t>1</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ea typeface="Calibri"/>
                        </a:rPr>
                        <a:t>2</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ea typeface="Calibri"/>
                        </a:rPr>
                        <a:t>3</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ea typeface="Calibri"/>
                        </a:rPr>
                        <a:t>4</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ea typeface="Calibri"/>
                        </a:rPr>
                        <a:t>5</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210276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Express opinion eg about cause of equipment failure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Convey information to others about a work task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Convey and explain current work information to others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Present information to clients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Present a</a:t>
                      </a:r>
                      <a:endParaRPr b="0" lang="en-US" sz="2400" spc="-1" strike="noStrike">
                        <a:solidFill>
                          <a:srgbClr val="000000"/>
                        </a:solidFill>
                        <a:latin typeface="Trebuchet MS"/>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 </a:t>
                      </a:r>
                      <a:r>
                        <a:rPr b="0" lang="en-AU" sz="2400" spc="-1" strike="noStrike">
                          <a:solidFill>
                            <a:srgbClr val="000000"/>
                          </a:solidFill>
                          <a:latin typeface="Trebuchet MS"/>
                        </a:rPr>
                        <a:t>tender to</a:t>
                      </a:r>
                      <a:endParaRPr b="0" lang="en-US" sz="2400" spc="-1" strike="noStrike">
                        <a:solidFill>
                          <a:srgbClr val="000000"/>
                        </a:solidFill>
                        <a:latin typeface="Trebuchet MS"/>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 </a:t>
                      </a:r>
                      <a:r>
                        <a:rPr b="0" lang="en-AU" sz="2400" spc="-1" strike="noStrike">
                          <a:solidFill>
                            <a:srgbClr val="000000"/>
                          </a:solidFill>
                          <a:latin typeface="Trebuchet MS"/>
                        </a:rPr>
                        <a:t>clients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bl>
          </a:graphicData>
        </a:graphic>
      </p:graphicFrame>
      <p:sp>
        <p:nvSpPr>
          <p:cNvPr id="271" name="Rectangle 2"/>
          <p:cNvSpPr/>
          <p:nvPr/>
        </p:nvSpPr>
        <p:spPr>
          <a:xfrm>
            <a:off x="374040" y="299880"/>
            <a:ext cx="2378160" cy="409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Oral communication</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8" name=""/>
          <p:cNvGraphicFramePr/>
          <p:nvPr/>
        </p:nvGraphicFramePr>
        <p:xfrm>
          <a:off x="252360" y="195120"/>
          <a:ext cx="10898280" cy="6662880"/>
        </p:xfrm>
        <a:graphic>
          <a:graphicData uri="http://schemas.openxmlformats.org/drawingml/2006/table">
            <a:tbl>
              <a:tblPr/>
              <a:tblGrid>
                <a:gridCol w="1109880"/>
                <a:gridCol w="8372160"/>
                <a:gridCol w="1416240"/>
              </a:tblGrid>
              <a:tr h="64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628956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1 Specific learning objectives and assessment activities (where required) are refined in accordance with learning program requirements and specific needs of individual learners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2 Ideas for managing the delivery are generated using knowledge of learning principles and learning theories and reflect the learning needs and characteristics of the group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3 Existing learning resources, learning materials and documented learning activities identified in the learning program are evaluated and selected for use in the specific delivery context</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4 Session plans are developed and documented for each segment of the learning program to be addressed</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68280" y="561960"/>
          <a:ext cx="11880720" cy="5603760"/>
        </p:xfrm>
        <a:graphic>
          <a:graphicData uri="http://schemas.openxmlformats.org/drawingml/2006/table">
            <a:tbl>
              <a:tblPr/>
              <a:tblGrid>
                <a:gridCol w="1440000"/>
                <a:gridCol w="720720"/>
                <a:gridCol w="1439640"/>
                <a:gridCol w="1440000"/>
                <a:gridCol w="1440000"/>
                <a:gridCol w="1439640"/>
                <a:gridCol w="1800360"/>
                <a:gridCol w="2160360"/>
              </a:tblGrid>
              <a:tr h="84132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4">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Core skills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gridSpan="3">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Example tasks against ACSF performance levels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9860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ea typeface="Calibri"/>
                        </a:rPr>
                        <a:t>1</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2">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ea typeface="Calibri"/>
                        </a:rPr>
                        <a:t>2</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ea typeface="Calibri"/>
                        </a:rPr>
                        <a:t>3</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ea typeface="Calibri"/>
                        </a:rPr>
                        <a:t>4</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ea typeface="Calibri"/>
                        </a:rPr>
                        <a:t>5</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33652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Trebuchet MS"/>
                        </a:rPr>
                        <a:t>Numeracy</a:t>
                      </a:r>
                      <a:endParaRPr b="0" lang="en-US" sz="20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Estimate money required for simple purchase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2">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Record numbers or quantities of materials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Calculate and compare costs of similar items from two sources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Apply formulae to measure 2 and 3 dimensional space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Research and investigate statistical data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4492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2">
                  <a:txBody>
                    <a:bodyPr lIns="55080" rIns="5508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55080" rIns="5508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2">
                  <a:txBody>
                    <a:bodyPr lIns="55080" rIns="5508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55080" rIns="5508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4492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600" spc="-1" strike="noStrike">
                          <a:solidFill>
                            <a:srgbClr val="000000"/>
                          </a:solidFill>
                          <a:latin typeface="Trebuchet MS"/>
                        </a:rPr>
                        <a:t> </a:t>
                      </a:r>
                      <a:endParaRPr b="0" lang="en-US" sz="6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2">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600" spc="-1" strike="noStrike">
                          <a:solidFill>
                            <a:srgbClr val="000000"/>
                          </a:solidFill>
                          <a:latin typeface="Trebuchet MS"/>
                        </a:rPr>
                        <a:t>Estimate length of a familiar object (eg length of wood) </a:t>
                      </a:r>
                      <a:endParaRPr b="0" lang="en-US" sz="6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600" spc="-1" strike="noStrike">
                          <a:solidFill>
                            <a:srgbClr val="000000"/>
                          </a:solidFill>
                          <a:latin typeface="Trebuchet MS"/>
                        </a:rPr>
                        <a:t>Locate address using a street directory </a:t>
                      </a:r>
                      <a:endParaRPr b="0" lang="en-US" sz="6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2">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600" spc="-1" strike="noStrike">
                          <a:solidFill>
                            <a:srgbClr val="000000"/>
                          </a:solidFill>
                          <a:latin typeface="Trebuchet MS"/>
                        </a:rPr>
                        <a:t>Make calculations including heights, areas, volumes and grades </a:t>
                      </a:r>
                      <a:endParaRPr b="0" lang="en-US" sz="6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600" spc="-1" strike="noStrike">
                          <a:solidFill>
                            <a:srgbClr val="000000"/>
                          </a:solidFill>
                          <a:latin typeface="Trebuchet MS"/>
                        </a:rPr>
                        <a:t>Interpret and use ratios and scales to read and discuss design and dimensions on a plan </a:t>
                      </a:r>
                      <a:endParaRPr b="0" lang="en-US" sz="6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600" spc="-1" strike="noStrike">
                          <a:solidFill>
                            <a:srgbClr val="000000"/>
                          </a:solidFill>
                          <a:latin typeface="Trebuchet MS"/>
                        </a:rPr>
                        <a:t>Select and use appropriate complex formulae for measurement (eg pitch of </a:t>
                      </a:r>
                      <a:endParaRPr b="0" lang="en-US" sz="6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3" name=""/>
          <p:cNvGraphicFramePr/>
          <p:nvPr/>
        </p:nvGraphicFramePr>
        <p:xfrm>
          <a:off x="312840" y="1311120"/>
          <a:ext cx="11879280" cy="3394080"/>
        </p:xfrm>
        <a:graphic>
          <a:graphicData uri="http://schemas.openxmlformats.org/drawingml/2006/table">
            <a:tbl>
              <a:tblPr/>
              <a:tblGrid>
                <a:gridCol w="2879640"/>
                <a:gridCol w="2160720"/>
                <a:gridCol w="2158920"/>
                <a:gridCol w="2519280"/>
                <a:gridCol w="2160720"/>
              </a:tblGrid>
              <a:tr h="44928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ea typeface="Calibri"/>
                        </a:rPr>
                        <a:t>1</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ea typeface="Calibri"/>
                        </a:rPr>
                        <a:t>2</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ea typeface="Calibri"/>
                        </a:rPr>
                        <a:t>3</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ea typeface="Calibri"/>
                        </a:rPr>
                        <a:t>4</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ea typeface="Calibri"/>
                        </a:rPr>
                        <a:t>5</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2944800">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Accurately record date </a:t>
                      </a:r>
                      <a:endParaRPr b="0" lang="en-US" sz="2400" spc="-1" strike="noStrike">
                        <a:solidFill>
                          <a:srgbClr val="000000"/>
                        </a:solidFill>
                        <a:latin typeface="Trebuchet MS"/>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and time using a calendar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Calculate cost of two items and estimate change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Measure items for </a:t>
                      </a:r>
                      <a:endParaRPr b="0" lang="en-US" sz="2400" spc="-1" strike="noStrike">
                        <a:solidFill>
                          <a:srgbClr val="000000"/>
                        </a:solidFill>
                        <a:latin typeface="Trebuchet MS"/>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work tasks using </a:t>
                      </a:r>
                      <a:endParaRPr b="0" lang="en-US" sz="2400" spc="-1" strike="noStrike">
                        <a:solidFill>
                          <a:srgbClr val="000000"/>
                        </a:solidFill>
                        <a:latin typeface="Trebuchet MS"/>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formal units (eg millimetres)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Use memory/square root functions on calculator to solve multi-step problems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55080" rIns="550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Investigate and analyse construction options given particular financial constraints </a:t>
                      </a:r>
                      <a:endParaRPr b="0" lang="en-US" sz="24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bl>
          </a:graphicData>
        </a:graphic>
      </p:graphicFrame>
      <p:sp>
        <p:nvSpPr>
          <p:cNvPr id="274" name="Rectangle 2"/>
          <p:cNvSpPr/>
          <p:nvPr/>
        </p:nvSpPr>
        <p:spPr>
          <a:xfrm>
            <a:off x="549720" y="378000"/>
            <a:ext cx="1899720" cy="5842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rPr>
              <a:t>Numeracy</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
          <p:cNvGraphicFramePr/>
          <p:nvPr/>
        </p:nvGraphicFramePr>
        <p:xfrm>
          <a:off x="162000" y="652320"/>
          <a:ext cx="10664640" cy="4907160"/>
        </p:xfrm>
        <a:graphic>
          <a:graphicData uri="http://schemas.openxmlformats.org/drawingml/2006/table">
            <a:tbl>
              <a:tblPr/>
              <a:tblGrid>
                <a:gridCol w="2023920"/>
                <a:gridCol w="1800360"/>
                <a:gridCol w="2160360"/>
                <a:gridCol w="2159280"/>
                <a:gridCol w="2520720"/>
              </a:tblGrid>
              <a:tr h="49068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Gothic"/>
                          <a:ea typeface="Calibri"/>
                        </a:rPr>
                        <a:t>1</a:t>
                      </a:r>
                      <a:endParaRPr b="0" lang="en-US" sz="28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Gothic"/>
                          <a:ea typeface="Calibri"/>
                        </a:rPr>
                        <a:t>2</a:t>
                      </a:r>
                      <a:endParaRPr b="0" lang="en-US" sz="28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Gothic"/>
                          <a:ea typeface="Calibri"/>
                        </a:rPr>
                        <a:t>3</a:t>
                      </a:r>
                      <a:endParaRPr b="0" lang="en-US" sz="28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Gothic"/>
                          <a:ea typeface="Calibri"/>
                        </a:rPr>
                        <a:t>4</a:t>
                      </a:r>
                      <a:endParaRPr b="0" lang="en-US" sz="28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Gothic"/>
                          <a:ea typeface="Calibri"/>
                        </a:rPr>
                        <a:t>5</a:t>
                      </a:r>
                      <a:endParaRPr b="0" lang="en-US" sz="28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441648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rPr>
                        <a:t>Estimate length of a familiar object (eg length of wood) </a:t>
                      </a:r>
                      <a:endParaRPr b="0" lang="en-US" sz="28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rPr>
                        <a:t>Locate address using a street directory </a:t>
                      </a:r>
                      <a:endParaRPr b="0" lang="en-US" sz="28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rPr>
                        <a:t>Make calculations including heights, areas, volumes and grades </a:t>
                      </a:r>
                      <a:endParaRPr b="0" lang="en-US" sz="28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rPr>
                        <a:t>Interpret and use ratios and scales to read and discuss design and dimensions on a plan </a:t>
                      </a:r>
                      <a:endParaRPr b="0" lang="en-US" sz="28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rPr>
                        <a:t>Select and use appropriate complex formulae for measurement</a:t>
                      </a:r>
                      <a:endParaRPr b="0" lang="en-US" sz="2800" spc="-1" strike="noStrike">
                        <a:solidFill>
                          <a:srgbClr val="000000"/>
                        </a:solidFill>
                        <a:latin typeface="Trebuchet MS"/>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bl>
          </a:graphicData>
        </a:graphic>
      </p:graphicFrame>
      <p:sp>
        <p:nvSpPr>
          <p:cNvPr id="276" name="Rectangle 2"/>
          <p:cNvSpPr/>
          <p:nvPr/>
        </p:nvSpPr>
        <p:spPr>
          <a:xfrm>
            <a:off x="471600" y="0"/>
            <a:ext cx="1899720" cy="5842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rPr>
              <a:t>Numeracy</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7" name=""/>
          <p:cNvGraphicFramePr/>
          <p:nvPr/>
        </p:nvGraphicFramePr>
        <p:xfrm>
          <a:off x="407880" y="96840"/>
          <a:ext cx="11169720" cy="6632640"/>
        </p:xfrm>
        <a:graphic>
          <a:graphicData uri="http://schemas.openxmlformats.org/drawingml/2006/table">
            <a:tbl>
              <a:tblPr/>
              <a:tblGrid>
                <a:gridCol w="1883160"/>
                <a:gridCol w="734400"/>
                <a:gridCol w="755280"/>
                <a:gridCol w="837720"/>
                <a:gridCol w="837360"/>
                <a:gridCol w="837360"/>
                <a:gridCol w="169200"/>
                <a:gridCol w="169200"/>
                <a:gridCol w="4946040"/>
              </a:tblGrid>
              <a:tr h="663480">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663840">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Level 1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Level 2</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Level 3</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Level 4</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Level 5</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r>
                        <a:rPr b="0" lang="en-AU" sz="1800" spc="-1" strike="noStrike">
                          <a:solidFill>
                            <a:srgbClr val="000000"/>
                          </a:solidFill>
                          <a:latin typeface="Trebuchet MS"/>
                        </a:rPr>
                        <a:t>Name of Student-</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993600">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Learning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ü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3">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Uses basic initiative to ask questions, learn and to research information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995400">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Reading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ü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3">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Locates basic features on a set of plans - cannot yet read plans and job specifications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995400">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Writing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ü</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3">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Writes basic messages and instructions and can complete basic proformas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1325520">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Oral Communication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ü</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3">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Listen and responds to routine requests and can explain technical procedures and information to others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r h="995400">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Numeracy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ü</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gridSpan="3">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 </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c>
                  <a:txBody>
                    <a:bodyPr lIns="66600" rIns="6660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Trebuchet MS"/>
                        </a:rPr>
                        <a:t>Accurately measures some items for work tasks, however cannot yet calculate areas, volumes and weight</a:t>
                      </a:r>
                      <a:endParaRPr b="0" lang="en-US" sz="1800" spc="-1" strike="noStrike">
                        <a:solidFill>
                          <a:srgbClr val="000000"/>
                        </a:solidFill>
                        <a:latin typeface="Trebuchet MS"/>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352440" y="260280"/>
          <a:ext cx="6622920" cy="6642000"/>
        </p:xfrm>
        <a:graphic>
          <a:graphicData uri="http://schemas.openxmlformats.org/drawingml/2006/table">
            <a:tbl>
              <a:tblPr/>
              <a:tblGrid>
                <a:gridCol w="3600360"/>
                <a:gridCol w="611280"/>
                <a:gridCol w="1800360"/>
                <a:gridCol w="610920"/>
              </a:tblGrid>
              <a:tr h="393840">
                <a:tc>
                  <a:txBody>
                    <a:bodyPr lIns="42480" rIns="42480" tIns="44280" bIns="4428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I can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lIns="42480" rIns="42480" tIns="44280" bIns="4428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Yes</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lIns="42480" rIns="42480" tIns="44280" bIns="4428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ometimes</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lIns="42480" rIns="42480" tIns="44280" bIns="4428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No</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39384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understand signs</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5760">
                      <a:solidFill>
                        <a:srgbClr val="ffffff"/>
                      </a:solidFill>
                    </a:lnB>
                    <a:solidFill>
                      <a:srgbClr val="f496cb"/>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5760">
                      <a:solidFill>
                        <a:srgbClr val="ffffff"/>
                      </a:solidFill>
                    </a:lnB>
                    <a:solidFill>
                      <a:srgbClr val="f496cb"/>
                    </a:solidFill>
                  </a:tcPr>
                </a:tc>
              </a:tr>
              <a:tr h="39384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fill in a time sheet</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r>
              <a:tr h="69876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unt and check change when shopping</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r>
              <a:tr h="39384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ext a message</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r>
              <a:tr h="100368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use the internet to get information like telephone numbers</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r>
              <a:tr h="39384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fill in a leave form</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r>
              <a:tr h="39384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read a staff memo</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r>
              <a:tr h="39384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use a computer to email</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r>
              <a:tr h="39384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use a calculator</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r>
              <a:tr h="39384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read a work roster</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bddec"/>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deff6"/>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496cb"/>
                    </a:solidFill>
                  </a:tcPr>
                </a:tc>
              </a:tr>
              <a:tr h="69876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read a map or street directory</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18720">
                      <a:solidFill>
                        <a:srgbClr val="ffffff"/>
                      </a:solidFill>
                    </a:lnB>
                    <a:solidFill>
                      <a:srgbClr val="fbddec"/>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18720">
                      <a:solidFill>
                        <a:srgbClr val="ffffff"/>
                      </a:solidFill>
                    </a:lnB>
                    <a:solidFill>
                      <a:srgbClr val="fbddec"/>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69876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read and understand the newspaper</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5760">
                      <a:solidFill>
                        <a:srgbClr val="ffffff"/>
                      </a:solidFill>
                    </a:lnB>
                    <a:solidFill>
                      <a:srgbClr val="f496cb"/>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5760">
                      <a:solidFill>
                        <a:srgbClr val="ffffff"/>
                      </a:solidFill>
                    </a:lnB>
                    <a:solidFill>
                      <a:srgbClr val="f496cb"/>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5760">
                      <a:solidFill>
                        <a:srgbClr val="ffffff"/>
                      </a:solidFill>
                    </a:lnB>
                    <a:solidFill>
                      <a:srgbClr val="f496cb"/>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5760">
                      <a:solidFill>
                        <a:srgbClr val="ffffff"/>
                      </a:solidFill>
                    </a:lnB>
                    <a:solidFill>
                      <a:srgbClr val="f496cb"/>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9" name=""/>
          <p:cNvGraphicFramePr/>
          <p:nvPr/>
        </p:nvGraphicFramePr>
        <p:xfrm>
          <a:off x="716040" y="2933640"/>
          <a:ext cx="7343640" cy="1546200"/>
        </p:xfrm>
        <a:graphic>
          <a:graphicData uri="http://schemas.openxmlformats.org/drawingml/2006/table">
            <a:tbl>
              <a:tblPr/>
              <a:tblGrid>
                <a:gridCol w="3600360"/>
                <a:gridCol w="611280"/>
                <a:gridCol w="2519280"/>
                <a:gridCol w="612720"/>
              </a:tblGrid>
              <a:tr h="51552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rebuchet MS"/>
                        </a:rPr>
                        <a:t>use a dictionary</a:t>
                      </a:r>
                      <a:endParaRPr b="0" lang="en-US" sz="2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51552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rebuchet MS"/>
                        </a:rPr>
                        <a:t>write a report</a:t>
                      </a:r>
                      <a:endParaRPr b="0" lang="en-US" sz="2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18720">
                      <a:solidFill>
                        <a:srgbClr val="ffffff"/>
                      </a:solidFill>
                    </a:lnB>
                    <a:solidFill>
                      <a:srgbClr val="f496cb"/>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18720">
                      <a:solidFill>
                        <a:srgbClr val="ffffff"/>
                      </a:solidFill>
                    </a:lnB>
                    <a:solidFill>
                      <a:srgbClr val="fbddec"/>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18720">
                      <a:solidFill>
                        <a:srgbClr val="ffffff"/>
                      </a:solidFill>
                    </a:lnB>
                    <a:solidFill>
                      <a:srgbClr val="fbddec"/>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18720">
                      <a:solidFill>
                        <a:srgbClr val="ffffff"/>
                      </a:solidFill>
                    </a:lnB>
                    <a:solidFill>
                      <a:srgbClr val="f496cb"/>
                    </a:solidFill>
                  </a:tcPr>
                </a:tc>
              </a:tr>
              <a:tr h="51552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rebuchet MS"/>
                        </a:rPr>
                        <a:t>read books</a:t>
                      </a:r>
                      <a:endParaRPr b="0" lang="en-US" sz="2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5760">
                      <a:solidFill>
                        <a:srgbClr val="ffffff"/>
                      </a:solidFill>
                    </a:lnB>
                    <a:solidFill>
                      <a:srgbClr val="f496cb"/>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5760">
                      <a:solidFill>
                        <a:srgbClr val="ffffff"/>
                      </a:solidFill>
                    </a:lnB>
                    <a:solidFill>
                      <a:srgbClr val="f496cb"/>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5760">
                      <a:solidFill>
                        <a:srgbClr val="ffffff"/>
                      </a:solidFill>
                    </a:lnB>
                    <a:solidFill>
                      <a:srgbClr val="f496cb"/>
                    </a:solidFill>
                  </a:tcPr>
                </a:tc>
                <a:tc>
                  <a:txBody>
                    <a:bodyPr lIns="42480" rIns="42480" tIns="44280" bIns="44280" anchor="ctr">
                      <a:noAutofit/>
                    </a:bodyPr>
                    <a:p>
                      <a:pPr>
                        <a:lnSpc>
                          <a:spcPct val="100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5760">
                      <a:solidFill>
                        <a:srgbClr val="ffffff"/>
                      </a:solidFill>
                    </a:lnB>
                    <a:solidFill>
                      <a:srgbClr val="f496cb"/>
                    </a:solidFill>
                  </a:tcPr>
                </a:tc>
              </a:tr>
            </a:tbl>
          </a:graphicData>
        </a:graphic>
      </p:graphicFrame>
      <p:graphicFrame>
        <p:nvGraphicFramePr>
          <p:cNvPr id="280" name=""/>
          <p:cNvGraphicFramePr/>
          <p:nvPr/>
        </p:nvGraphicFramePr>
        <p:xfrm>
          <a:off x="677880" y="1800360"/>
          <a:ext cx="7451640" cy="515880"/>
        </p:xfrm>
        <a:graphic>
          <a:graphicData uri="http://schemas.openxmlformats.org/drawingml/2006/table">
            <a:tbl>
              <a:tblPr/>
              <a:tblGrid>
                <a:gridCol w="3600360"/>
                <a:gridCol w="719280"/>
                <a:gridCol w="2520720"/>
                <a:gridCol w="611280"/>
              </a:tblGrid>
              <a:tr h="515880">
                <a:tc>
                  <a:txBody>
                    <a:bodyPr lIns="42480" rIns="42480" tIns="44280" bIns="4428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rebuchet MS"/>
                        </a:rPr>
                        <a:t>I can …</a:t>
                      </a:r>
                      <a:endParaRPr b="0" lang="en-US" sz="2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18720">
                      <a:solidFill>
                        <a:srgbClr val="ffffff"/>
                      </a:solidFill>
                    </a:lnB>
                    <a:solidFill>
                      <a:srgbClr val="f496cb"/>
                    </a:solidFill>
                  </a:tcPr>
                </a:tc>
                <a:tc>
                  <a:txBody>
                    <a:bodyPr lIns="42480" rIns="42480" tIns="44280" bIns="4428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rebuchet MS"/>
                        </a:rPr>
                        <a:t>Yes</a:t>
                      </a:r>
                      <a:endParaRPr b="0" lang="en-US" sz="2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18720">
                      <a:solidFill>
                        <a:srgbClr val="ffffff"/>
                      </a:solidFill>
                    </a:lnB>
                    <a:solidFill>
                      <a:srgbClr val="f496cb"/>
                    </a:solidFill>
                  </a:tcPr>
                </a:tc>
                <a:tc>
                  <a:txBody>
                    <a:bodyPr lIns="42480" rIns="42480" tIns="44280" bIns="4428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rebuchet MS"/>
                        </a:rPr>
                        <a:t>Sometimes</a:t>
                      </a:r>
                      <a:endParaRPr b="0" lang="en-US" sz="2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18720">
                      <a:solidFill>
                        <a:srgbClr val="ffffff"/>
                      </a:solidFill>
                    </a:lnB>
                    <a:solidFill>
                      <a:srgbClr val="f496cb"/>
                    </a:solidFill>
                  </a:tcPr>
                </a:tc>
                <a:tc>
                  <a:txBody>
                    <a:bodyPr lIns="42480" rIns="42480" tIns="44280" bIns="4428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rebuchet MS"/>
                        </a:rPr>
                        <a:t>No</a:t>
                      </a:r>
                      <a:endParaRPr b="0" lang="en-US" sz="2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18720">
                      <a:solidFill>
                        <a:srgbClr val="ffffff"/>
                      </a:solidFill>
                    </a:lnB>
                    <a:solidFill>
                      <a:srgbClr val="f496cb"/>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1" name=""/>
          <p:cNvGraphicFramePr/>
          <p:nvPr/>
        </p:nvGraphicFramePr>
        <p:xfrm>
          <a:off x="677880" y="2160720"/>
          <a:ext cx="7342200" cy="2738160"/>
        </p:xfrm>
        <a:graphic>
          <a:graphicData uri="http://schemas.openxmlformats.org/drawingml/2006/table">
            <a:tbl>
              <a:tblPr/>
              <a:tblGrid>
                <a:gridCol w="3600360"/>
                <a:gridCol w="609840"/>
                <a:gridCol w="2520720"/>
                <a:gridCol w="611280"/>
              </a:tblGrid>
              <a:tr h="179532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rebuchet MS"/>
                        </a:rPr>
                        <a:t>follow procedures for mixing a solution or follow a recipe</a:t>
                      </a:r>
                      <a:endParaRPr b="0" lang="en-US" sz="28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1368720">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rebuchet MS"/>
                        </a:rPr>
                        <a:t>calculate fractions, decimals and percentages</a:t>
                      </a:r>
                      <a:endParaRPr b="0" lang="en-US" sz="2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5760">
                      <a:solidFill>
                        <a:srgbClr val="ffffff"/>
                      </a:solidFill>
                    </a:lnB>
                    <a:solidFill>
                      <a:srgbClr val="f496cb"/>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5760">
                      <a:solidFill>
                        <a:srgbClr val="ffffff"/>
                      </a:solidFill>
                    </a:lnB>
                    <a:solidFill>
                      <a:srgbClr val="f496cb"/>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5760">
                      <a:solidFill>
                        <a:srgbClr val="ffffff"/>
                      </a:solidFill>
                    </a:lnB>
                    <a:solidFill>
                      <a:srgbClr val="f496cb"/>
                    </a:solidFill>
                  </a:tcPr>
                </a:tc>
                <a:tc>
                  <a:txBody>
                    <a:bodyPr lIns="42480" rIns="42480" tIns="44280" bIns="44280" anchor="ctr">
                      <a:noAutofit/>
                    </a:bodyPr>
                    <a:p>
                      <a:pPr>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 </a:t>
                      </a:r>
                      <a:endParaRPr b="0" lang="en-US" sz="20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5760">
                      <a:solidFill>
                        <a:srgbClr val="ffffff"/>
                      </a:solidFill>
                    </a:lnB>
                    <a:solidFill>
                      <a:srgbClr val="f496cb"/>
                    </a:solidFill>
                  </a:tcPr>
                </a:tc>
              </a:tr>
            </a:tbl>
          </a:graphicData>
        </a:graphic>
      </p:graphicFrame>
      <p:graphicFrame>
        <p:nvGraphicFramePr>
          <p:cNvPr id="282" name=""/>
          <p:cNvGraphicFramePr/>
          <p:nvPr/>
        </p:nvGraphicFramePr>
        <p:xfrm>
          <a:off x="587520" y="1440000"/>
          <a:ext cx="7451640" cy="515880"/>
        </p:xfrm>
        <a:graphic>
          <a:graphicData uri="http://schemas.openxmlformats.org/drawingml/2006/table">
            <a:tbl>
              <a:tblPr/>
              <a:tblGrid>
                <a:gridCol w="3600360"/>
                <a:gridCol w="718920"/>
                <a:gridCol w="2521080"/>
                <a:gridCol w="611280"/>
              </a:tblGrid>
              <a:tr h="515880">
                <a:tc>
                  <a:txBody>
                    <a:bodyPr lIns="42480" rIns="42480" tIns="44280" bIns="4428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rebuchet MS"/>
                        </a:rPr>
                        <a:t>I can …</a:t>
                      </a:r>
                      <a:endParaRPr b="0" lang="en-US" sz="2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18720">
                      <a:solidFill>
                        <a:srgbClr val="ffffff"/>
                      </a:solidFill>
                    </a:lnB>
                    <a:solidFill>
                      <a:srgbClr val="f496cb"/>
                    </a:solidFill>
                  </a:tcPr>
                </a:tc>
                <a:tc>
                  <a:txBody>
                    <a:bodyPr lIns="42480" rIns="42480" tIns="44280" bIns="4428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rebuchet MS"/>
                        </a:rPr>
                        <a:t>Yes</a:t>
                      </a:r>
                      <a:endParaRPr b="0" lang="en-US" sz="2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18720">
                      <a:solidFill>
                        <a:srgbClr val="ffffff"/>
                      </a:solidFill>
                    </a:lnB>
                    <a:solidFill>
                      <a:srgbClr val="f496cb"/>
                    </a:solidFill>
                  </a:tcPr>
                </a:tc>
                <a:tc>
                  <a:txBody>
                    <a:bodyPr lIns="42480" rIns="42480" tIns="44280" bIns="4428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rebuchet MS"/>
                        </a:rPr>
                        <a:t>Sometimes</a:t>
                      </a:r>
                      <a:endParaRPr b="0" lang="en-US" sz="2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18720">
                      <a:solidFill>
                        <a:srgbClr val="ffffff"/>
                      </a:solidFill>
                    </a:lnB>
                    <a:solidFill>
                      <a:srgbClr val="f496cb"/>
                    </a:solidFill>
                  </a:tcPr>
                </a:tc>
                <a:tc>
                  <a:txBody>
                    <a:bodyPr lIns="42480" rIns="42480" tIns="44280" bIns="4428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rebuchet MS"/>
                        </a:rPr>
                        <a:t>No</a:t>
                      </a:r>
                      <a:endParaRPr b="0" lang="en-US" sz="2800" spc="-1" strike="noStrike">
                        <a:solidFill>
                          <a:srgbClr val="000000"/>
                        </a:solidFill>
                        <a:latin typeface="Trebuchet MS"/>
                      </a:endParaRPr>
                    </a:p>
                  </a:txBody>
                  <a:tcPr anchor="ctr" marL="42480" marR="42480">
                    <a:lnL w="5760">
                      <a:solidFill>
                        <a:srgbClr val="ffffff"/>
                      </a:solidFill>
                    </a:lnL>
                    <a:lnR w="5760">
                      <a:solidFill>
                        <a:srgbClr val="ffffff"/>
                      </a:solidFill>
                    </a:lnR>
                    <a:lnT w="18720">
                      <a:solidFill>
                        <a:srgbClr val="ffffff"/>
                      </a:solidFill>
                    </a:lnT>
                    <a:lnB w="18720">
                      <a:solidFill>
                        <a:srgbClr val="ffffff"/>
                      </a:solidFill>
                    </a:lnB>
                    <a:solidFill>
                      <a:srgbClr val="f496cb"/>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
          <p:cNvSpPr/>
          <p:nvPr/>
        </p:nvSpPr>
        <p:spPr>
          <a:xfrm>
            <a:off x="798480" y="0"/>
            <a:ext cx="10071000" cy="67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ea typeface="MS Mincho"/>
              </a:rPr>
              <a:t>Part B</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MS Mincho"/>
              </a:rPr>
              <a:t> </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S Mincho"/>
              </a:rPr>
              <a:t>You are required to read the following article in which you will be asked eight (8) questions.</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S Mincho"/>
              </a:rPr>
              <a:t> </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ea typeface="MS Mincho"/>
              </a:rPr>
              <a:t>Article</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S Mincho"/>
              </a:rPr>
              <a:t> </a:t>
            </a:r>
            <a:r>
              <a:rPr b="0" lang="en-US" sz="2400" spc="-1" strike="noStrike">
                <a:solidFill>
                  <a:srgbClr val="000000"/>
                </a:solidFill>
                <a:latin typeface="Calibri"/>
                <a:ea typeface="MS Mincho"/>
              </a:rPr>
              <a:t>After conducting a training need analysis on the middle management team at “Bits N Bobs”, it was discovered that whilst they were technically competent, there were large gaps in their management competencies.</a:t>
            </a:r>
            <a:endParaRPr b="0" lang="en-US" sz="2400" spc="-1" strike="noStrike">
              <a:solidFill>
                <a:srgbClr val="000000"/>
              </a:solidFill>
              <a:latin typeface="Trebuchet MS"/>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ea typeface="MS Mincho"/>
              </a:rPr>
              <a:t>The requirement of Bits N Bobs is that all management (junior through to senior) must hold a minimum of two (2) of the core units of competency and one (1) elective unit of competency, from the Certificate IV in Frontline Management. It is also mandated that one (1) of the core units must be “BSBMGT401A Show leadership in the workplace”.</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ea typeface="MS Mincho"/>
              </a:rPr>
              <a:t> </a:t>
            </a:r>
            <a:endParaRPr b="0" lang="en-US" sz="2400" spc="-1" strike="noStrike">
              <a:solidFill>
                <a:srgbClr val="000000"/>
              </a:solidFill>
              <a:latin typeface="Trebuchet MS"/>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ea typeface="MS Mincho"/>
              </a:rPr>
              <a:t>Bits N Bobs will allow their management team to provide evidence of prior studies (RPL) through any other Registered Training Organisation (RTO) other than the selected RTO, MIA Training Services</a:t>
            </a:r>
            <a:r>
              <a:rPr b="0" lang="en-AU" sz="1800" spc="-1" strike="noStrike">
                <a:solidFill>
                  <a:srgbClr val="000000"/>
                </a:solidFill>
                <a:latin typeface="Calibri"/>
                <a:ea typeface="MS Mincho"/>
              </a:rPr>
              <a: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
          <p:cNvSpPr/>
          <p:nvPr/>
        </p:nvSpPr>
        <p:spPr>
          <a:xfrm>
            <a:off x="347760" y="282600"/>
            <a:ext cx="8796240" cy="41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ea typeface="Times New Roman"/>
              </a:rPr>
              <a:t>MIA Training Services will offer two (2) options with the required training:</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ea typeface="Times New Roman"/>
              </a:rPr>
              <a:t> </a:t>
            </a:r>
            <a:endParaRPr b="0" lang="en-US" sz="2400" spc="-1" strike="noStrike">
              <a:solidFill>
                <a:srgbClr val="000000"/>
              </a:solidFill>
              <a:latin typeface="Trebuchet MS"/>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ea typeface="Times New Roman"/>
              </a:rPr>
              <a:t>They will deliver the required “skill set” for the three (3) units of competency required by Bits N Bobs or</a:t>
            </a:r>
            <a:endParaRPr b="0" lang="en-US" sz="2400" spc="-1" strike="noStrike">
              <a:solidFill>
                <a:srgbClr val="000000"/>
              </a:solidFill>
              <a:latin typeface="Trebuchet MS"/>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ea typeface="Times New Roman"/>
              </a:rPr>
              <a:t>Candidates can also elect to undertake the whole Certificate IV in Frontline Management (four (4) core units plus six (6) elective units) via correspondence.</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S Mincho"/>
              </a:rPr>
              <a:t> </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S Mincho"/>
              </a:rPr>
              <a:t>All management must have at least the minimum in place within six (6) month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
          <p:cNvSpPr/>
          <p:nvPr/>
        </p:nvSpPr>
        <p:spPr>
          <a:xfrm>
            <a:off x="395280" y="214200"/>
            <a:ext cx="10049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MS Mincho"/>
              </a:rPr>
              <a:t>Questions</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MS Mincho"/>
              </a:rPr>
              <a:t> </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Q1. What is the name of the “mandated” unit of competency all management must have?</a:t>
            </a:r>
            <a:endParaRPr b="0" lang="en-US" sz="2800" spc="-1" strike="noStrike">
              <a:solidFill>
                <a:srgbClr val="000000"/>
              </a:solidFill>
              <a:latin typeface="Trebuchet MS"/>
            </a:endParaRPr>
          </a:p>
        </p:txBody>
      </p:sp>
      <p:sp>
        <p:nvSpPr>
          <p:cNvPr id="286" name="Rectangle 2"/>
          <p:cNvSpPr/>
          <p:nvPr/>
        </p:nvSpPr>
        <p:spPr>
          <a:xfrm>
            <a:off x="395280" y="2190600"/>
            <a:ext cx="9547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Q2. What are the minimum requirements for junior through to senior management?</a:t>
            </a:r>
            <a:endParaRPr b="0" lang="en-US" sz="2800" spc="-1" strike="noStrike">
              <a:solidFill>
                <a:srgbClr val="000000"/>
              </a:solidFill>
              <a:latin typeface="Trebuchet MS"/>
            </a:endParaRPr>
          </a:p>
        </p:txBody>
      </p:sp>
      <p:sp>
        <p:nvSpPr>
          <p:cNvPr id="287" name="Rectangle 3"/>
          <p:cNvSpPr/>
          <p:nvPr/>
        </p:nvSpPr>
        <p:spPr>
          <a:xfrm>
            <a:off x="485640" y="3174840"/>
            <a:ext cx="9726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Q3. List the three (3) methods of achieving the required outcomes for the management team at Bits N Bobs?</a:t>
            </a:r>
            <a:endParaRPr b="0" lang="en-US" sz="2800" spc="-1" strike="noStrike">
              <a:solidFill>
                <a:srgbClr val="000000"/>
              </a:solidFill>
              <a:latin typeface="Trebuchet MS"/>
            </a:endParaRPr>
          </a:p>
        </p:txBody>
      </p:sp>
      <p:sp>
        <p:nvSpPr>
          <p:cNvPr id="288" name="Rectangle 4"/>
          <p:cNvSpPr/>
          <p:nvPr/>
        </p:nvSpPr>
        <p:spPr>
          <a:xfrm>
            <a:off x="627120" y="4357800"/>
            <a:ext cx="9585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Q4. What is the name of the qualification that all the requirements are associated to?</a:t>
            </a:r>
            <a:endParaRPr b="0" lang="en-US" sz="2800" spc="-1" strike="noStrike">
              <a:solidFill>
                <a:srgbClr val="000000"/>
              </a:solidFill>
              <a:latin typeface="Trebuchet MS"/>
            </a:endParaRPr>
          </a:p>
        </p:txBody>
      </p:sp>
      <p:sp>
        <p:nvSpPr>
          <p:cNvPr id="289" name="Rectangle 5"/>
          <p:cNvSpPr/>
          <p:nvPr/>
        </p:nvSpPr>
        <p:spPr>
          <a:xfrm>
            <a:off x="768240" y="5540400"/>
            <a:ext cx="9818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Q5. If you were to complete the Certificate IV in Frontline Management, how many “CORE” units are you required to do?</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136440" y="0"/>
          <a:ext cx="10898280" cy="6489720"/>
        </p:xfrm>
        <a:graphic>
          <a:graphicData uri="http://schemas.openxmlformats.org/drawingml/2006/table">
            <a:tbl>
              <a:tblPr/>
              <a:tblGrid>
                <a:gridCol w="1109880"/>
                <a:gridCol w="8372520"/>
                <a:gridCol w="1415880"/>
              </a:tblGrid>
              <a:tr h="64260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611784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1 Selected existing learning resources, learning materials and learning activities are modified and contextualised for the particular group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2 Additional new, relevant and engaging learning activities and associated learning materials are developed and documented to meet specific session requirements based on the application of learning principles and learner styles of individuals and the group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3 All learning materials required by learners are finalised and organised in time for delivery 3.4 Specific facility, technology and equipment needs for each session are identified and organised in time for delivery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5 Additional resourcing to meet identified learner support needs is identified and organised, where required, in time for delivery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6 The overall delivery plan is confirmed with relevant personnel </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ea typeface="Times New Roman"/>
                        </a:rPr>
                        <a:t> </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
          <p:cNvSpPr/>
          <p:nvPr/>
        </p:nvSpPr>
        <p:spPr>
          <a:xfrm>
            <a:off x="355680" y="468360"/>
            <a:ext cx="9329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Q6. If you were to complete the Certificate IV in Frontline Management, how many “ELECTIVE” units are you required to do?</a:t>
            </a:r>
            <a:endParaRPr b="0" lang="en-US" sz="2800" spc="-1" strike="noStrike">
              <a:solidFill>
                <a:srgbClr val="000000"/>
              </a:solidFill>
              <a:latin typeface="Trebuchet MS"/>
            </a:endParaRPr>
          </a:p>
        </p:txBody>
      </p:sp>
      <p:sp>
        <p:nvSpPr>
          <p:cNvPr id="291" name="Rectangle 2"/>
          <p:cNvSpPr/>
          <p:nvPr/>
        </p:nvSpPr>
        <p:spPr>
          <a:xfrm>
            <a:off x="458640" y="2173320"/>
            <a:ext cx="922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Q7. Will Bits N Bobs accept my evidence that I completed the required three (3) units at another RTO?</a:t>
            </a:r>
            <a:endParaRPr b="0" lang="en-US" sz="2800" spc="-1" strike="noStrike">
              <a:solidFill>
                <a:srgbClr val="000000"/>
              </a:solidFill>
              <a:latin typeface="Trebuchet MS"/>
            </a:endParaRPr>
          </a:p>
        </p:txBody>
      </p:sp>
      <p:sp>
        <p:nvSpPr>
          <p:cNvPr id="292" name="Rectangle 3"/>
          <p:cNvSpPr/>
          <p:nvPr/>
        </p:nvSpPr>
        <p:spPr>
          <a:xfrm>
            <a:off x="458640" y="4152960"/>
            <a:ext cx="922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Q8. Within what time frame are all management required to have at least the minimum requirements in place?</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
          <p:cNvSpPr/>
          <p:nvPr/>
        </p:nvSpPr>
        <p:spPr>
          <a:xfrm>
            <a:off x="279360" y="244440"/>
            <a:ext cx="8053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Q1. What is the name of the “mandated” unit of competency all management must have?</a:t>
            </a:r>
            <a:endParaRPr b="0" lang="en-US" sz="2800" spc="-1" strike="noStrike">
              <a:solidFill>
                <a:srgbClr val="000000"/>
              </a:solidFill>
              <a:latin typeface="Trebuchet MS"/>
            </a:endParaRPr>
          </a:p>
        </p:txBody>
      </p:sp>
      <p:sp>
        <p:nvSpPr>
          <p:cNvPr id="294" name="Rectangle 2"/>
          <p:cNvSpPr/>
          <p:nvPr/>
        </p:nvSpPr>
        <p:spPr>
          <a:xfrm>
            <a:off x="316080" y="1747800"/>
            <a:ext cx="711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BSBMGT401A Show leadership in the workplace</a:t>
            </a:r>
            <a:endParaRPr b="0" lang="en-US" sz="2800" spc="-1" strike="noStrike">
              <a:solidFill>
                <a:srgbClr val="000000"/>
              </a:solidFill>
              <a:latin typeface="Trebuchet MS"/>
            </a:endParaRPr>
          </a:p>
        </p:txBody>
      </p:sp>
      <p:sp>
        <p:nvSpPr>
          <p:cNvPr id="295" name="Rectangle 3"/>
          <p:cNvSpPr/>
          <p:nvPr/>
        </p:nvSpPr>
        <p:spPr>
          <a:xfrm>
            <a:off x="407880" y="2631960"/>
            <a:ext cx="6096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Q2. What are the minimum requirements for junior through to senior management?</a:t>
            </a:r>
            <a:endParaRPr b="0" lang="en-US" sz="2800" spc="-1" strike="noStrike">
              <a:solidFill>
                <a:srgbClr val="000000"/>
              </a:solidFill>
              <a:latin typeface="Trebuchet MS"/>
            </a:endParaRPr>
          </a:p>
        </p:txBody>
      </p:sp>
      <p:sp>
        <p:nvSpPr>
          <p:cNvPr id="296" name="Rectangle 4"/>
          <p:cNvSpPr/>
          <p:nvPr/>
        </p:nvSpPr>
        <p:spPr>
          <a:xfrm>
            <a:off x="407880" y="404172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two (2) of the core units of competency and one (1) elective unit of competency, from the Certificate IV in Frontline Management  It is also mandated that one (1) of the core units must be “BSBMGT401A Show leadership in the workplace</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
          <p:cNvSpPr/>
          <p:nvPr/>
        </p:nvSpPr>
        <p:spPr>
          <a:xfrm>
            <a:off x="395280" y="530280"/>
            <a:ext cx="8143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Q3. List the three (3) methods of achieving the required outcomes for the management team at Bits N Bobs?</a:t>
            </a:r>
            <a:endParaRPr b="0" lang="en-US" sz="2800" spc="-1" strike="noStrike">
              <a:solidFill>
                <a:srgbClr val="000000"/>
              </a:solidFill>
              <a:latin typeface="Trebuchet MS"/>
            </a:endParaRPr>
          </a:p>
        </p:txBody>
      </p:sp>
      <p:sp>
        <p:nvSpPr>
          <p:cNvPr id="298" name="Rectangle 2"/>
          <p:cNvSpPr/>
          <p:nvPr/>
        </p:nvSpPr>
        <p:spPr>
          <a:xfrm>
            <a:off x="395280" y="20224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1.to provide evidence of prior studies (RPL) through any other Registered Training Organisation (RTO) other than the selected RTO, MIA Training Services</a:t>
            </a:r>
            <a:endParaRPr b="0" lang="en-US" sz="2800" spc="-1" strike="noStrike">
              <a:solidFill>
                <a:srgbClr val="000000"/>
              </a:solidFill>
              <a:latin typeface="Trebuchet MS"/>
            </a:endParaRPr>
          </a:p>
        </p:txBody>
      </p:sp>
      <p:sp>
        <p:nvSpPr>
          <p:cNvPr id="299" name="Rectangle 3"/>
          <p:cNvSpPr/>
          <p:nvPr/>
        </p:nvSpPr>
        <p:spPr>
          <a:xfrm>
            <a:off x="395280" y="4064040"/>
            <a:ext cx="8786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2. They will deliver the required “skill set” for the three (3) units of competency required by Bits N Bobs</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3. Candidates can also elect to undertake the whole Certificate IV in Frontline Management (four (4) core units plus six (6) elective units) via correspondence</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
          <p:cNvSpPr/>
          <p:nvPr/>
        </p:nvSpPr>
        <p:spPr>
          <a:xfrm>
            <a:off x="369720" y="528480"/>
            <a:ext cx="9663120" cy="122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Q4. What is the name of the qualification that all the requirements are associated to?</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MS Mincho"/>
              </a:rPr>
              <a:t> </a:t>
            </a:r>
            <a:endParaRPr b="0" lang="en-US" sz="1800" spc="-1" strike="noStrike">
              <a:solidFill>
                <a:srgbClr val="000000"/>
              </a:solidFill>
              <a:latin typeface="Trebuchet MS"/>
            </a:endParaRPr>
          </a:p>
        </p:txBody>
      </p:sp>
      <p:sp>
        <p:nvSpPr>
          <p:cNvPr id="301" name="Rectangle 2"/>
          <p:cNvSpPr/>
          <p:nvPr/>
        </p:nvSpPr>
        <p:spPr>
          <a:xfrm>
            <a:off x="505800" y="1790640"/>
            <a:ext cx="5796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Certificate IV in Frontline Management</a:t>
            </a:r>
            <a:endParaRPr b="0" lang="en-US" sz="2800" spc="-1" strike="noStrike">
              <a:solidFill>
                <a:srgbClr val="000000"/>
              </a:solidFill>
              <a:latin typeface="Trebuchet MS"/>
            </a:endParaRPr>
          </a:p>
        </p:txBody>
      </p:sp>
      <p:sp>
        <p:nvSpPr>
          <p:cNvPr id="302" name="Rectangle 3"/>
          <p:cNvSpPr/>
          <p:nvPr/>
        </p:nvSpPr>
        <p:spPr>
          <a:xfrm>
            <a:off x="485640" y="2871720"/>
            <a:ext cx="7963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Q5. If you were to complete the Certificate IV in Frontline Management, how many “CORE” units are you required to do?</a:t>
            </a:r>
            <a:endParaRPr b="0" lang="en-US" sz="2800" spc="-1" strike="noStrike">
              <a:solidFill>
                <a:srgbClr val="000000"/>
              </a:solidFill>
              <a:latin typeface="Trebuchet MS"/>
            </a:endParaRPr>
          </a:p>
        </p:txBody>
      </p:sp>
      <p:sp>
        <p:nvSpPr>
          <p:cNvPr id="303" name="Rectangle 4"/>
          <p:cNvSpPr/>
          <p:nvPr/>
        </p:nvSpPr>
        <p:spPr>
          <a:xfrm>
            <a:off x="758520" y="4416480"/>
            <a:ext cx="36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4</a:t>
            </a:r>
            <a:endParaRPr b="0" lang="en-US" sz="2800" spc="-1" strike="noStrike">
              <a:solidFill>
                <a:srgbClr val="000000"/>
              </a:solidFill>
              <a:latin typeface="Trebuchet MS"/>
            </a:endParaRPr>
          </a:p>
        </p:txBody>
      </p:sp>
      <p:sp>
        <p:nvSpPr>
          <p:cNvPr id="304" name="Rectangle 5"/>
          <p:cNvSpPr/>
          <p:nvPr/>
        </p:nvSpPr>
        <p:spPr>
          <a:xfrm>
            <a:off x="485640" y="4933800"/>
            <a:ext cx="8709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Q6. If you were to complete the Certificate IV in Frontline Management, how many “ELECTIVE” units are you required to do?</a:t>
            </a:r>
            <a:endParaRPr b="0" lang="en-US" sz="2800" spc="-1" strike="noStrike">
              <a:solidFill>
                <a:srgbClr val="000000"/>
              </a:solidFill>
              <a:latin typeface="Trebuchet MS"/>
            </a:endParaRPr>
          </a:p>
        </p:txBody>
      </p:sp>
      <p:sp>
        <p:nvSpPr>
          <p:cNvPr id="305" name="Rectangle 6"/>
          <p:cNvSpPr/>
          <p:nvPr/>
        </p:nvSpPr>
        <p:spPr>
          <a:xfrm>
            <a:off x="758520" y="6313320"/>
            <a:ext cx="36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6</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
          <p:cNvSpPr/>
          <p:nvPr/>
        </p:nvSpPr>
        <p:spPr>
          <a:xfrm>
            <a:off x="574560" y="501480"/>
            <a:ext cx="8518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Q7. Will Bits N Bobs accept my evidence that I completed the required three (3) units at another RTO?</a:t>
            </a:r>
            <a:endParaRPr b="0" lang="en-US" sz="2800" spc="-1" strike="noStrike">
              <a:solidFill>
                <a:srgbClr val="000000"/>
              </a:solidFill>
              <a:latin typeface="Trebuchet MS"/>
            </a:endParaRPr>
          </a:p>
        </p:txBody>
      </p:sp>
      <p:sp>
        <p:nvSpPr>
          <p:cNvPr id="307" name="Rectangle 2"/>
          <p:cNvSpPr/>
          <p:nvPr/>
        </p:nvSpPr>
        <p:spPr>
          <a:xfrm>
            <a:off x="886680" y="2198520"/>
            <a:ext cx="669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Yes</a:t>
            </a:r>
            <a:endParaRPr b="0" lang="en-US" sz="2800" spc="-1" strike="noStrike">
              <a:solidFill>
                <a:srgbClr val="000000"/>
              </a:solidFill>
              <a:latin typeface="Trebuchet MS"/>
            </a:endParaRPr>
          </a:p>
        </p:txBody>
      </p:sp>
      <p:sp>
        <p:nvSpPr>
          <p:cNvPr id="308" name="Rectangle 3"/>
          <p:cNvSpPr/>
          <p:nvPr/>
        </p:nvSpPr>
        <p:spPr>
          <a:xfrm>
            <a:off x="665280" y="3125880"/>
            <a:ext cx="8337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Q8. Within what time frame are all management required to have at least the minimum requirements in place?</a:t>
            </a:r>
            <a:endParaRPr b="0" lang="en-US" sz="2800" spc="-1" strike="noStrike">
              <a:solidFill>
                <a:srgbClr val="000000"/>
              </a:solidFill>
              <a:latin typeface="Trebuchet MS"/>
            </a:endParaRPr>
          </a:p>
        </p:txBody>
      </p:sp>
      <p:sp>
        <p:nvSpPr>
          <p:cNvPr id="309" name="Rectangle 4"/>
          <p:cNvSpPr/>
          <p:nvPr/>
        </p:nvSpPr>
        <p:spPr>
          <a:xfrm>
            <a:off x="1107360" y="4915080"/>
            <a:ext cx="221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MS Mincho"/>
              </a:rPr>
              <a:t>six (6) month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1836720" y="198360"/>
            <a:ext cx="6095880" cy="119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000080"/>
                </a:solidFill>
                <a:latin typeface="Verdana"/>
                <a:ea typeface="Times New Roman"/>
              </a:rPr>
              <a:t>TAADEL403A</a:t>
            </a:r>
            <a:endParaRPr b="0" lang="en-US" sz="3200" spc="-1" strike="noStrike">
              <a:solidFill>
                <a:srgbClr val="000000"/>
              </a:solidFill>
              <a:latin typeface="Trebuchet MS"/>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80"/>
                </a:solidFill>
                <a:latin typeface="Verdana"/>
                <a:ea typeface="Times New Roman"/>
              </a:rPr>
              <a:t>Facilitate individual learning</a:t>
            </a:r>
            <a:r>
              <a:rPr b="0" lang="en-AU" sz="3200" spc="-1" strike="noStrike">
                <a:solidFill>
                  <a:srgbClr val="000000"/>
                </a:solidFill>
                <a:latin typeface="Times New Roman"/>
                <a:ea typeface="Times New Roman"/>
              </a:rPr>
              <a:t> </a:t>
            </a:r>
            <a:endParaRPr b="0" lang="en-US" sz="3200" spc="-1" strike="noStrike">
              <a:solidFill>
                <a:srgbClr val="000000"/>
              </a:solidFill>
              <a:latin typeface="Trebuchet MS"/>
            </a:endParaRPr>
          </a:p>
        </p:txBody>
      </p:sp>
      <p:graphicFrame>
        <p:nvGraphicFramePr>
          <p:cNvPr id="221" name=""/>
          <p:cNvGraphicFramePr/>
          <p:nvPr/>
        </p:nvGraphicFramePr>
        <p:xfrm>
          <a:off x="111240" y="966960"/>
          <a:ext cx="10897920" cy="4394160"/>
        </p:xfrm>
        <a:graphic>
          <a:graphicData uri="http://schemas.openxmlformats.org/drawingml/2006/table">
            <a:tbl>
              <a:tblPr/>
              <a:tblGrid>
                <a:gridCol w="1109520"/>
                <a:gridCol w="8372520"/>
                <a:gridCol w="1415880"/>
              </a:tblGrid>
              <a:tr h="64260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402372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1.1 The need for individual learning/facilitation in the learning area is identified</a:t>
                      </a:r>
                      <a:endParaRPr b="0" lang="en-US" sz="2400" spc="-1" strike="noStrike">
                        <a:solidFill>
                          <a:srgbClr val="000000"/>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 </a:t>
                      </a:r>
                      <a:r>
                        <a:rPr b="0" lang="en-AU" sz="2400" spc="-1" strike="noStrike">
                          <a:solidFill>
                            <a:srgbClr val="000000"/>
                          </a:solidFill>
                          <a:latin typeface="Trebuchet MS"/>
                        </a:rPr>
                        <a:t>1.2 The goals for learning for individual learning/ facilitation are identified and discussed with relevant persons</a:t>
                      </a:r>
                      <a:endParaRPr b="0" lang="en-US" sz="2400" spc="-1" strike="noStrike">
                        <a:solidFill>
                          <a:srgbClr val="000000"/>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 </a:t>
                      </a:r>
                      <a:r>
                        <a:rPr b="0" lang="en-AU" sz="2400" spc="-1" strike="noStrike">
                          <a:solidFill>
                            <a:srgbClr val="000000"/>
                          </a:solidFill>
                          <a:latin typeface="Trebuchet MS"/>
                        </a:rPr>
                        <a:t>1.3 Appropriate individual learning/facilitation techniques and processes are identified and documented to support individual learning needs and goals</a:t>
                      </a:r>
                      <a:endParaRPr b="0" lang="en-US" sz="2400" spc="-1" strike="noStrike">
                        <a:solidFill>
                          <a:srgbClr val="000000"/>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 </a:t>
                      </a:r>
                      <a:r>
                        <a:rPr b="0" lang="en-AU" sz="2400" spc="-1" strike="noStrike">
                          <a:solidFill>
                            <a:srgbClr val="000000"/>
                          </a:solidFill>
                          <a:latin typeface="Trebuchet MS"/>
                        </a:rPr>
                        <a:t>1.4 Evaluation processes are developed and agreed </a:t>
                      </a:r>
                      <a:endParaRPr b="0" lang="en-US" sz="2400" spc="-1" strike="noStrike">
                        <a:solidFill>
                          <a:srgbClr val="000000"/>
                        </a:solidFill>
                        <a:latin typeface="Trebuchet M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rebuchet MS"/>
                        </a:rPr>
                        <a:t>1.5 Organisational support for implementation is obtained, where relevant </a:t>
                      </a:r>
                      <a:endParaRPr b="0" lang="en-US" sz="24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2" name=""/>
          <p:cNvGraphicFramePr/>
          <p:nvPr/>
        </p:nvGraphicFramePr>
        <p:xfrm>
          <a:off x="395280" y="550800"/>
          <a:ext cx="10898280" cy="6489720"/>
        </p:xfrm>
        <a:graphic>
          <a:graphicData uri="http://schemas.openxmlformats.org/drawingml/2006/table">
            <a:tbl>
              <a:tblPr/>
              <a:tblGrid>
                <a:gridCol w="1109520"/>
                <a:gridCol w="8372520"/>
                <a:gridCol w="1416240"/>
              </a:tblGrid>
              <a:tr h="64260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611640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1 The individual's learning style, learner characteristics and the context for learning are identified</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2 The appropriate technique/process to facilitate individual learning is selected or organised and the basis of the technique/process is explained and discussed with the individual learner</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 </a:t>
                      </a:r>
                      <a:r>
                        <a:rPr b="0" lang="en-AU" sz="2800" spc="-1" strike="noStrike">
                          <a:solidFill>
                            <a:srgbClr val="000000"/>
                          </a:solidFill>
                          <a:latin typeface="Times New Roman"/>
                          <a:ea typeface="Times New Roman"/>
                        </a:rPr>
                        <a:t>2.3 The boundaries and expectations of the learning/ facilitation relationship are clarified and agreed using effective communication and interpersonal skills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4 Any equity or additional support needs are clarified </a:t>
                      </a:r>
                      <a:endParaRPr b="0" lang="en-US" sz="28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imes New Roman"/>
                          <a:ea typeface="Times New Roman"/>
                        </a:rPr>
                        <a:t>2.5 An individualised learning plan is developed, documented and discussed with the learner </a:t>
                      </a:r>
                      <a:endParaRPr b="0" lang="en-US" sz="28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ea typeface="Times New Roman"/>
                        </a:rPr>
                        <a:t> </a:t>
                      </a:r>
                      <a:endParaRPr b="0" lang="en-US" sz="2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
          <p:cNvGraphicFramePr/>
          <p:nvPr/>
        </p:nvGraphicFramePr>
        <p:xfrm>
          <a:off x="201600" y="0"/>
          <a:ext cx="10898280" cy="7175520"/>
        </p:xfrm>
        <a:graphic>
          <a:graphicData uri="http://schemas.openxmlformats.org/drawingml/2006/table">
            <a:tbl>
              <a:tblPr/>
              <a:tblGrid>
                <a:gridCol w="1109520"/>
                <a:gridCol w="8372520"/>
                <a:gridCol w="1416240"/>
              </a:tblGrid>
              <a:tr h="642600">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Element</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escription</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c>
                  <a:txBody>
                    <a:bodyPr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Trebuchet MS"/>
                        </a:rPr>
                        <a:t>Documents</a:t>
                      </a:r>
                      <a:endParaRPr b="0" lang="en-US" sz="1800" spc="-1" strike="noStrike">
                        <a:solidFill>
                          <a:srgbClr val="000000"/>
                        </a:solidFill>
                        <a:latin typeface="Trebuchet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496cb"/>
                    </a:solidFill>
                  </a:tcPr>
                </a:tc>
              </a:tr>
              <a:tr h="6802920">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1 Preparation for each meeting/session is evident</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 </a:t>
                      </a:r>
                      <a:r>
                        <a:rPr b="0" lang="en-AU" sz="2400" spc="-1" strike="noStrike">
                          <a:solidFill>
                            <a:srgbClr val="000000"/>
                          </a:solidFill>
                          <a:latin typeface="Times New Roman"/>
                          <a:ea typeface="Times New Roman"/>
                        </a:rPr>
                        <a:t>3.2 Effective communication and interpersonal skills are used to grow the relationship and sustain active participation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3 Structured learning activities are developed to support and reinforce new learning, build on strengths and identify areas for further development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4 Leadership and motivational skills are demonstrated to enable the learner to take responsibility for learning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5 Learner cues are observed and changes in approach are made, where necessary, to maintain momentum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6 Ethical behaviours are practised at all times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7 Regular meetings are agreed to by both parties and scheduled to monitor the effectiveness of the learning/facilitation relationship </a:t>
                      </a:r>
                      <a:endParaRPr b="0" lang="en-US" sz="2400" spc="-1" strike="noStrike">
                        <a:solidFill>
                          <a:srgbClr val="000000"/>
                        </a:solidFill>
                        <a:latin typeface="Trebuchet MS"/>
                      </a:endParaRPr>
                    </a:p>
                    <a:p>
                      <a:pP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Times New Roman"/>
                          <a:ea typeface="Times New Roman"/>
                        </a:rPr>
                        <a:t>3.8 Appropriate documentation to support the relationship is mutually developed and maintained </a:t>
                      </a:r>
                      <a:endParaRPr b="0" lang="en-US" sz="2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ea typeface="Times New Roman"/>
                        </a:rPr>
                        <a:t> </a:t>
                      </a:r>
                      <a:endParaRPr b="0" lang="en-US" sz="24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c>
                  <a:txBody>
                    <a:bodyPr lIns="68400" rIns="6840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4T05:44:35Z</dcterms:created>
  <dc:creator>ukyawnaing</dc:creator>
  <dc:description/>
  <dc:language>en-US</dc:language>
  <cp:lastModifiedBy>F55A-SX039</cp:lastModifiedBy>
  <dcterms:modified xsi:type="dcterms:W3CDTF">2015-04-17T13:32:23Z</dcterms:modified>
  <cp:revision>58</cp:revision>
  <dc:subject/>
  <dc:title>PowerPoint Presentation</dc:title>
</cp:coreProperties>
</file>